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640-7C39-4313-988B-D02DFA0D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0D3-6D58-475C-9581-EC653331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C76-2A80-4DAD-8ABD-C73B85B2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069-8E6F-453D-BA9A-1FCB2DAF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8AE7-53F4-4A2B-8890-0409EDC6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F0F7-820A-4FEE-BA8E-602D1DC4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7DBA-8771-40D0-A710-4A5189A5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50D2-4A12-490A-BAD1-05443BD1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FBC7-E80F-4B05-9F9D-B0731B99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916B-A694-4B20-909F-3A46F50A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86CC-9741-4A3A-844E-98E1F5FA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FE7-E7B2-44D4-98F7-B6DAC05B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64E1-4057-46F4-9738-630B4D9C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DA7E-4B98-4151-9499-FADACC7E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7E92-5EEB-45D5-8515-9553EB34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7E20-BD17-4E21-827B-D83A2989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604E-F690-497A-A741-E4EE60E8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ACB-DD7E-44D1-AB60-BF6A7357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307-97DA-434A-90EC-A1394C40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97B-CADA-463C-8E9B-26B29BEB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72E-A28B-4CC2-A5C6-67B2BF88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9B4-3D72-401A-B967-89E1183A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295-2465-4ED4-9F96-0E9CCCEB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060-6C43-4C12-A25D-98CE7710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BF08-E1AA-4605-ACEE-F3608578B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CF96-9A3E-42D3-8FAC-D5F051B12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ISA VE DİĞER TARAMA YÖNTEMLER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ANTİJEN HAZIRLA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irus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yn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MV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nsan embriyo akciğer hücrelerin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oğalır, alkalen glisin buffer il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kstrakte edil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BV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urifiye insan plazması veya mayada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retilmiş rekombinant HBsAg kullanılı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CV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ayadan rekombinant antijen üretil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entetik peptidler veya rekombinant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jenler kullanılı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0640"/>
            <a:ext cx="74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Enzim Konjugasy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orseradish peroksidaz (HRP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kalen fosfataz (AP) genellikle kullanıl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MEL TEST YÖNTEMLER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0560" y="1844640"/>
            <a:ext cx="5123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direkt ELI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mpetitive ELI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body-capture ELI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ZİM AMPLİFİKASY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üşük antijen bulunan klinik örneklerde ELISA duyarlılığını artır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vidin-biotin si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otinlenmiş antikorlar ile avidin veya streptavidin konjuge enzimler daha iyi bağlan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Çalışma Yöntemi-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85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ksiyona girdiğinde ışığı absorbe eden renkli bir ürün oluşturan enzimle işaretli Ab veya A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b veya Ag solid faza kaplı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ranan örnek solid faza eklen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g ve Ab birbirine bağlan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pesifik olmayanlar yıkan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Çalışma Yöntemi-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2133720"/>
            <a:ext cx="7931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njugat ekleni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lanmamış konjugat yıkan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zim substratı eklenir ve renklenme ol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K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lid fazın tipi (En sık plastik mikrotit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ıka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ay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ü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ygunlu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zim ve substrat (En sık HRPO ve 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ç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erform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ksiyonun sonlanma hız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CİHAZLA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56000" y="148428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m otomati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rı otomati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nu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DUYARLILIĞI ARTTIRMA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FA’da Florofor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emiluminesan immunassay’de kemiluminesan bileşikler kullanıl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emiluminesan’da otoanalizör benzeri cihazlar kullanıl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emiluminesan bileşiklerin çoğu ışık yerine kimyasal enerji gerektir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Kritik Basamakla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280" y="126828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ıka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ipetle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kübasy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ksiyon çemberinin uygun şekilde kapatılmas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librasy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jentlerin sulandırılmas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ğru dilüsyonda çalış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rnek ve reajent kalites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rtam ve reaksiyon ısıs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İRAL TAN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34920" y="1557360"/>
            <a:ext cx="58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iral antijenlerin gösterilmes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lektron mikroskobis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mmunflores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kor tarama testler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ücre kültürler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yvan deneyler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Hatalı Pozitiflik Sebepleri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1640" y="1484280"/>
            <a:ext cx="684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üksek ve serbest Hemoglob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ibrin artıklar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üşük örnek kalites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apraz reaksiyon-kontaminasy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alışanın hatalar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ğer IgG’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rneklemede veya dilüsyonda h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etal kontaminasyon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talı renklen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Hatalı Negatiflik Sebepler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lüe örnek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rnekleme veya dilüsyonunda h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ıkama hatas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jentlerin hatalı hazırlanmas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jentlerin eklenmesindeki hata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Bağışçıdan Alınan Örnekl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 sırasında alınmalı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rekt veya torbadan alınabil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üp bilgileri doğru olmalı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lgiler test öncesi, işlemi ve sonrasında takip edilebilmelid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icari kitin isteğine uyulmalı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rum veya plazma ile çalışabil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c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oliz, lipemi, ikter, fibrin artıklar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men çalışılmayacaklar uygun ortamlarda saklanmalı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REAJENTL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nerilen saklama koşulları sağlanmal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alışma öncesinde gözle kontrol edilmel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n kullanma tarihi kontrol edilmel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ygun dilüent, uygun hacim kullanılmal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arklı lotlar birleştirilmemel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alışma öncesi oda ısısına getirilmel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alışmada prospektüse uyum sağlanmal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ospektüse göre kalite kontrol yapılmal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GENEL KURALLAR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retici talimatına göre çalışılmal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alışma bitince genel değerlendirme (validasy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bul kriterlerini karşılamayan çalışmalar onaylanmamal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krarlayan reaktivite araştırılmal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ktif ünitelerde biyoemniyet kurallarına uyulmal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ğrulama testleri yapılmalı/yaptırılmal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ozitif sonuçlar bildirilmel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DIOIMMUNASS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üksek duyarlılık ve özgüllüğe sahipt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f ömrü kısa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matik sistemlerd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Çalışma güvenliği (radyoaktivite) sağlanmalı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ıkların kontrollü yok edilmesi önemli sorunlardı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1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genellikle işaretlemede kullanıl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diğer sık kullanılan izotoplar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UMINESCENCE TESTL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oluminescent sistem, ateş böceği luminescence, enzim luciferase, luciferin, magnezyum iyonları, ATP ve moleküler oksijene ihtiyaç göster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af ömrü 2 yıl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Ucuzd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RAMA TESTLER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ternal ve eksternal kalite kontrollerle denet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r test için negatif ve pozitif k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ut-off hesaplamaları için dış kontro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V ve HCV’de düşük pozitif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nternal k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krarlayan reaktiv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ğrulama prosedürüne uy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ğrulama Testleri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BA (Recombinant immunoblot assa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Western Bl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bridizasy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CR / NA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Surrogate Testler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9800" y="2103480"/>
            <a:ext cx="605160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T yüksekliğ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-HBc pozitifliğ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rum neopterin düzey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26920" y="220500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la bulaştığı biline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üm viruslar için tarama testi yapma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kılcı değildi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666720"/>
            <a:ext cx="0" cy="495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5619600"/>
            <a:ext cx="571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52520" y="4705200"/>
            <a:ext cx="228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52520" y="38671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52520" y="29527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52520" y="20383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52520" y="11239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554364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554364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554364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554364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54364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554364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047600"/>
            <a:ext cx="685800" cy="47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8440" y="5776920"/>
            <a:ext cx="59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65        1970           1975         1980            1985         1990       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52388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1523880"/>
            <a:ext cx="0" cy="2743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4267080"/>
            <a:ext cx="220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267080"/>
            <a:ext cx="0" cy="152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4419720"/>
            <a:ext cx="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487692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876920"/>
            <a:ext cx="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5105520"/>
            <a:ext cx="685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105520"/>
            <a:ext cx="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5334120"/>
            <a:ext cx="91440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0600" y="6094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HBsAg tara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7360" y="274320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IDS risk grubunu reddet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63920" y="327672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ti-HIV te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43000" y="388620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ALT-Anti-HBc ta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6920" y="441972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ti-HCV te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70240" y="487692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lişmiş Anti-HCV te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914400"/>
            <a:ext cx="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3200400"/>
            <a:ext cx="0" cy="76212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581280"/>
            <a:ext cx="0" cy="60984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4191120"/>
            <a:ext cx="0" cy="6094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4648320"/>
            <a:ext cx="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8920" y="1700280"/>
            <a:ext cx="873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ÜTF Kan Merkezi (450 kan donörü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BsAg pozitif 18 (%4), Anti-HCV pozitif 2 (%0,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-HBc pozitif 174 donör (%38,7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T yüksek 12 donör (%2,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d edilmesi gereken donör 184 (%40,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Arial"/>
              </a:rPr>
              <a:t>KMTD, 2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ürkiye Veriler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YIT VE RAPORLA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ama testi sonuçlar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ziti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krarlayan reakti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ğrulama testi sonuçlar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ziti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ğrulanmış poziti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İT B VİRUS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ra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IA; III Kuşak test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uyarlılık sınır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0.06-1.5 ng/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ktif testler çift kuyucukta tekrarlanmal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ğrulama yönte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pesifik nötralizasyon (ELI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ünyada 450 milyon, ülkemizde 3 milyon civarında taşıyıcı olduğu tahmin edilmekted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rama testinin uygulanmasından önce PTH’lerin % 60’ından HBV sorumlu iken artık % 10’lara düşmüştür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üm nedenler içinde HBsAg bulaş oranı % 0.3-1.7’di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İT B VİRU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3. Kuşak HBsAg kitleri ile duyarlılık sınırı 0.06-1.5 ng / ml arasıdır. Yalancı pozitiflik oranı %0.2 civarında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erçek pozitifliği saptayabilmek için testin çift kuyucukta tekrarlanması ve yine pozitif bulunduğunda doğrulama testi için referans merkeze gönderilmesi gerek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krarlayan reaktif bağışçıların çoğu ilk kez  kan verenlerd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İT B VİRU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MTD’nin yaptığı çok merkezli bir çalışmada HBsAg testinde tekrarlayan reaktivite oranı % 49.6 bulunmuşt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ğrulama testinde RF pozitifliği hatalı sonuçlara sebep ol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İT B VİRU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İT C VİRUS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ra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IA; III Kuşak testler (kor, NS3, NS4, NS5 antijenleri vardır) kullanılmalı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 HCV IgM testlerinin değeri yokt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CR ile ilk 3-10 günde pozitiflik elde edil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eaktif testler çift kuyucukta tekrarlanmalı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oğrulama yöntemleri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CR ile HCV-R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47280" y="1483920"/>
            <a:ext cx="849636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5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989 yılında tanımlanmış bir RNA virusud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5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ANBH PTH, %80-90 akut dönemde herhangi bir klinik bulgu vermeyen subklinik bir tablod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5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çüncü jenerasyon anti-HCV kitinde kor, NS3, NS4 ve NS5 bölgelerine ait antijenler var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5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CR ile 3-10 günde enfeksiyon tanısı konulabilir, ancak tarama testi değild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İT C VİRU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84978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lkemizde sağlıklı kişilerde HCV prevalansı % 0.3-1.9 arasında değiş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MTD’nin yaptığı bir çalışmada kan bağışçılarında Anti-HCV seroprevalansı % 0.5 bulunmuşt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mmunsupresif hastalarda antikor yanıtı hiç ortaya çıkmayabil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İT C VİRU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st Teknikler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7640" y="1988640"/>
            <a:ext cx="52880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artikül aglütinasy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hemiluminescence Ass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andwich Particle Ass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40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semptomatik bağışçılardaki erken HCV enfeksiyonu önemlid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CV pencere dönemi 12 haftadır ve 6 aya kadar uzayabil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-HCV antikor reaktivitesi doğrulama testinin yalnız tek bir antijenine karşı tespit edilmiş ise belirsiz (indeterminate) olarak değerlendiril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İT C VİRU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İT D VİRUS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219320"/>
            <a:ext cx="8497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efektif bir RNA virusud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erumda HBsAg taranması HDV riskini azaltır ancak sıfıra düşürme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DV kan ve kan komponentlerinin yanısıra koagülasyon faktör konsantreleri ile de bulaş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00"/>
                </a:solidFill>
                <a:uFillTx/>
                <a:latin typeface="Arial"/>
              </a:rPr>
              <a:t>Tara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IA; III Kuşak testler kullanılmalıdı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Ortalama 6-8 hafta sonra pozitiflik gözlen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V-I, HIV-II birlikte taranmalıdı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II. Kuşak testlerde hem IgM, hem de IgG antikorları saptanır (3 haftada pozitifli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00"/>
                </a:solidFill>
                <a:uFillTx/>
                <a:latin typeface="Arial"/>
              </a:rPr>
              <a:t>Reaktif testler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çift kuyucukta tekrarlanmalıdı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00"/>
                </a:solidFill>
                <a:uFillTx/>
                <a:latin typeface="Arial"/>
              </a:rPr>
              <a:t>Doğrulama yönteml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eni örnekte tarama testi tekrarlanmalıdı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Western b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V-RI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V Ag tes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675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ünyadaki AIDS olgularının yaklaşık %2.7’sinin transfüzyonla bulaştığı gösterilmişt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ultipl transfüzyon yapılanlar daha büyük risk altındadır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ulaşmadan ortalama 12 hafta sonra anti-HIV pozifleş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lk olarak 1977’de transfüzyona bağlı HIV enfeksiyonu tanımlanmışt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Ülkemizde 1987’de kan bankalarında Anti-HIV taraması zorunlu kılınmışt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ızılay kan bağışçılarında Anti-HIV   seropozitifliği % 0.25,   KMTD’nin yaptığı araştırmada % 0.2 bulunmuşt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582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MTD’nin yaptığı çok merkezli bir çalışmada Anti-HIV 1/2 testinde doğrulanan reaktif bağışçı oranı %3.5 olarak bulunmuşt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DC verilerine göre AIDS’li olguların %3.4’ünde virusun kan ve kan ürünleri ile bulaştığı gösterilmişt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604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NAT 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Nükleik Asit Amplifikasyon Test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2565000"/>
            <a:ext cx="781236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CR: Polymerase Chain Re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CR: Ligase Chain Re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ASBA: Nucleic Acid Sequence-Based Ampl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MA: Transcription Mediated Ampl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ara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kor negatif olgular için geliştirilmişt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CR (Polimerase Chain Rea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z sayıda mikroorganizma nükleik materyali çoğaltılarak ölçülebilecek düzeylere getiril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V R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jenden 6, antikordan 10-12 gün önce tanımlanabil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CV-R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kordan 40 gün önce saptanabil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BV-D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BsAg’den 25 gün önce saptanabil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ahalıdır, standardizasyonu güçtü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vuzlar (minipool) oluşturularak çalışıl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vrupa’da HCV-RNA 1999’da plazma fraksinasyon tesislerinde zorunlu test olmuşt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ugün birçok ülkede HIV ve HCV için taramalarda minipool yöntemi ile NAT kullanılmakta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den NA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8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IFIR riske en yakın kan ürünü elde edilebilmes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-HBc taramaları ve hatta viral inaktivasyon yöntemlerinin yerine geçebilmes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lancı negatif veya pozitif oranı azlığ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ÜZYONLA BULAŞAN ENFEKSİYONLARIN SEBEPLER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rama testinin yetersizliğ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irinci, ikinci jenerasyon test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utant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encere döne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mmünsüpresy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aboratuvar hatalar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ransfüzyonla bulaşan enfeksiyon görüntüsündeki enfeksiy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nceden var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stane enfeksiyon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2947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ABD’nde Tahmini 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Enfeksiyöz Kan Ürünü Miktar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erolojik Test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AT(+)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FARK (x3)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CV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16 Ünit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2 Ünit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4 Ünite (252)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8 Ünit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2 Ünit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 Ünite (18)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5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100" spc="-1" strike="noStrike">
                <a:solidFill>
                  <a:srgbClr val="000000"/>
                </a:solidFill>
                <a:latin typeface="Arial"/>
              </a:rPr>
              <a:t>Tarama testleri negatif kanlarla</a:t>
            </a:r>
            <a:br>
              <a:rPr sz="3100"/>
            </a:br>
            <a:r>
              <a:rPr b="1" lang="tr-TR" sz="3100" spc="-1" strike="noStrike">
                <a:solidFill>
                  <a:srgbClr val="000000"/>
                </a:solidFill>
                <a:latin typeface="Arial"/>
              </a:rPr>
              <a:t>virus bulaşma olasılıkları (NAT pozitif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C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103 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370 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%7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493 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1 000 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%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63 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110 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%4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6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Transfüzyonla 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Virus Bulaşma Risk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V ve HBV’de: %90 pencere dönemindeki kan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CV’de: %75 pencere dönemindeki kanlar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%25 immünolojik sessiz enfeksiyon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e laboratuar hatalar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NAT’da Etkinli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31640" y="2349000"/>
            <a:ext cx="684036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revalans yükse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encere dönemi uz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llanılan tarama testi antikor test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feksiyon seyri ciddi ise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RT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HIV ve HCV’de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Preserokonversiyon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Pencere Dönemi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tijen T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N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25 gü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17 gü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-12 g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-82 gü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g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den NAT Değil?-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79280" y="1844280"/>
            <a:ext cx="476244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tomasy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vuz büyüklüğ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ısa miadlı ürün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ntaminasy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ğer virus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liy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den NAT Değil?-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VUZ BÜYÜKLÜĞ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nımlar: Ana Havuz - Ara Havu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lüsyon Faktör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lancı pozitiflik (%1-4,5..... %33-5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tılsın mı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alancı pozitif mi kabul edilsi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NUÇ: Her virus için ayrı havuz büyüklüğ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93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den NAT Değil?-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SA MİADLI ÜRÜN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lancı Pozitifli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AMINASY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zitif-Negatif Örnek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paklı Tüp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ifiye Ele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haz Bakım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8580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den NAT Değil?-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907640" y="1828440"/>
            <a:ext cx="647388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İĞER VİRUS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arvo virus B1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ALİY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BD’de tahmini ek maliye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96 milyon dolar / yı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NAT’da Değerlendirm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252720" y="1484280"/>
            <a:ext cx="939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Negatif Sonuç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def sekansın olmadığ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fektivitenin olmadığ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LAMINA  GELME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33577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lvl="1" marL="453240" indent="-174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Zayıf Pozitif Sonu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fektiviteyle ilişkili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LABİLİ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48690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uvvetli Pozitif Sonu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sin bulaştırıcılı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LAMINA GELM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uyarlılık-Özgüllü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uyarlılı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çek pozitifl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yarlılık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çek pozitiflik +Yalancı negatifl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Özgüllük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çek negatifl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Özgüllük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çek negatiflik +Yalancı pozitifl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489096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289872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eni Bir Tarama Test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rekli Mi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195640" y="1700280"/>
            <a:ext cx="65023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lığın toplumdaki prevalans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amnezin değ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linen yüksek riskli grup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tkenin virülans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aşıyıcılık dur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pideminin dur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lığın şidde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davi olanağ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arama testinin kalite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oğrulama testinin varlığ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aliyet faktörl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Hansen Modeli (Risk Faktörleri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lığın prevalansı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inamikler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iddet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aşam yılı/kalite etkis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Risk azaltma beklentis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limsel sorunlar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lık gelişme olasılığı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ağışık alıcılar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lk sağlığına etkis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kincil olgular olasılığı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Hansen Modeli 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(Operasyonel Faktörler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k kompleksit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eğiştirilmiş girişi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ynaklar üzerine etk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onör etkis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muoyunun endişes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st tipinin yarattığı sorun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asal düzenlemenin gelişim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omuoyundaki imaj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stin pozitif prediktif değer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stin ünite maliyetine etkis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Hansen Modeli 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(Değerlendirme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r bir faktörün söz konusu stratejiyi etkileme derecesine göre 1-5 şeklinde derecelendirilmişt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oplam olası risk sayısı 125’dir, Operasyonel toplam sayısı da 95 d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75’in altındaki önemli tehdit değild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75-100 arası daha ileri incelemelere ihtiyaç göster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00’ün üzeri ise tehdit önemlid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Ülkemizde Durum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nti-HBc pozitifliğ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sorgulamanın öne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TV ve diğer enfeksiyonların taranmasındaki gereklili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ST SEÇİM STRATEJİLER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071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yarlılı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SA sistemlerinde %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ızlı testlerde %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rika serum örneklerinde ise %95 olmalı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SÖ HIV STRATEJİS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trateji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ve doku bağışçısından alınan kan ve kan ürünleri, doku, organ,sperm ve ovumlar taranmalıdı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trateji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V enfeksiyonunun bir toplumda zaman içindeki durumunun belirlenmesi için prevalansın takip edilmesi gerek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trateji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IV enfeksiyonunun tanıs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Prediktif Değerl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Pozitif Prediktif Değ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Gerçek pozitifl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PPD =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Gerçek pozitiflik +Yalancı pozitifl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egatif Prediktif Değ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Gerçek negatifl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NPD =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Gerçek negatiflik +Yalancı negatifl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515772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299736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GİSİ ÖNEMLİ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71640" y="2060280"/>
            <a:ext cx="36100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itik Duyarlılı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ısal Duyarlılı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itik Özgüllü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ısal Özgüllü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SA: SOLİD FA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56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ikroplak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oncu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ü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üve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(polystryrene, polyvinyl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polycarbonate veya nayl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4:36Z</dcterms:created>
  <dc:creator>HÜSNÜ</dc:creator>
  <dc:description/>
  <dc:language>en-US</dc:language>
  <cp:lastModifiedBy>DELL</cp:lastModifiedBy>
  <dcterms:modified xsi:type="dcterms:W3CDTF">2006-10-19T13:33:39Z</dcterms:modified>
  <cp:revision>161</cp:revision>
  <dc:subject/>
  <dc:title>Slayt Başlığı Yok</dc:title>
</cp:coreProperties>
</file>