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B6D-C49C-4644-9F43-A879E954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E43-D9A3-4728-A4CD-BBD37BDA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87D-5D32-4224-BF16-63E26C8C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B14-CE3E-490E-802E-153B23F2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B77-BC03-4E9D-8C6B-55F5DBE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ECA-11E8-4230-AAD8-AE35410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F5D-B049-4E64-A27C-5C582F9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E7B-E5C8-41B1-936B-496509D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CCB-7EED-46E5-ABD9-31A06C9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6FF-B868-462D-8549-4ED0D0A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4EA-84FA-4D1F-B3EA-DFF9D66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232-8FD7-42FD-AA97-7E79258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2BB-3782-4F5F-A6CA-4E4B8F44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497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AN BİLEŞENLERİ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AZIRLANMA YÖNTEMLER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ÖKOSİTTEN FAKİ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etkili yol lökosit filtreler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çüncü generasyon filtreler ile %99.9 oranında lökosit uzaklaştırı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iltreler hasta başında veya kan merkezinde uygu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ebril non-hemolitik transfüzyon reaksiyonunu önlemek için &lt;5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, CMV infeksiyon geçişini engellemek için &lt;5x10</a:t>
            </a:r>
            <a:r>
              <a:rPr b="1" lang="tr-TR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lökosit bulu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44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ÖKOSİTTEN ARINDIRMA YÖNTEMLER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7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s santrifügas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itrositleri yık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itrositleri dondurup, çözdükten sonra yık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itrositleri filtre et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34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mbosit süspansiyonu tam kandan santrifüj veya aferez cihazları aracılığı ile elde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inikler aferez isteklerini belirtmelid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 ünite trombositleri 4-6’lı gruplar halinde bir araya getirilerek havuz trombositleri elde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trifüj yoluyla elde edilen trombosit süspansiyonu 5-10x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ombosit iç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489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SİT SÜSPAN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8720" y="243792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mbo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ko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tro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ü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uygunluğ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95968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080" y="1981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İçerdiği ürün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5200" y="2438280"/>
            <a:ext cx="2362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-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5200" y="1981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e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1680" y="2438280"/>
            <a:ext cx="2362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5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0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5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ğiş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1680" y="1981080"/>
            <a:ext cx="16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 Ü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8160" y="2438280"/>
            <a:ext cx="2362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3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8160" y="1981080"/>
            <a:ext cx="187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uz 6 Ü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OMBOFER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897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ntaj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ha az lökosit içer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feksiyon riski az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kteri kontaminasyonu az görül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terli konsantrasyonda ürün elde edilebi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ha az donör gerek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1628640"/>
            <a:ext cx="2935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zavantaj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halı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RİYOPRESİPİ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DP 1-6°C’de gece boyunca yavaş yavaş eriti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antrifüj ile süpernatan atıl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alan 10-15 cc peltemsi kısma de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emen dondurulur, TDP gibi saklan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ullanım için plazma çözücülerde çözdürülür ve 6 saat içinde kullanıl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ÇERİ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80 ünite Faktör 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200 mg Fibrino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rjinalinin ortalama %50 si oranında von Willebrand Factor (vW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rjinalinin ortalama %25’i kadar Faktör X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53972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820360" cy="14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– TROMBOSİT - TD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KLAMA ve TAŞIMA KOŞUL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kan / Eritrosit Süspansiyonu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+ 2 - 6°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üspansiyonu     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+20 - 22°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ze donmuş plazma                             -18 - 4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53972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BİLEŞEN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dan hazırlanan tüm terapötik mater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352680"/>
            <a:ext cx="679608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ın hücresel kompon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ın plazma kompon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zma fraksinasyon ürün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M KAN BİLEŞENLER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9760" y="1446120"/>
            <a:ext cx="1467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m 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209680"/>
            <a:ext cx="21337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trosit süspansiy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2209680"/>
            <a:ext cx="21337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mbositten zengin pl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038480"/>
            <a:ext cx="21337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mbosit süspansiy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4038480"/>
            <a:ext cx="213372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ze donmuş Pl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5410080"/>
            <a:ext cx="23623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yopresip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181480"/>
            <a:ext cx="213372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ıv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571640" y="2133360"/>
            <a:ext cx="685800" cy="838440"/>
          </a:xfrm>
          <a:custGeom>
            <a:avLst/>
            <a:gdLst>
              <a:gd name="textAreaLeft" fmla="*/ 228600 w 685800"/>
              <a:gd name="textAreaRight" fmla="*/ 587520 w 68580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16200000">
            <a:off x="3504960" y="21333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20040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6207200">
            <a:off x="4725000" y="3504240"/>
            <a:ext cx="1752840" cy="992160"/>
          </a:xfrm>
          <a:custGeom>
            <a:avLst/>
            <a:gdLst>
              <a:gd name="textAreaLeft" fmla="*/ 583920 w 1752840"/>
              <a:gd name="textAreaRight" fmla="*/ 1501200 w 1752840"/>
              <a:gd name="textAreaTop" fmla="*/ 648000 h 992160"/>
              <a:gd name="textAreaBottom" fmla="*/ 849960 h 992160"/>
            </a:gdLst>
            <a:ahLst/>
            <a:rect l="textAreaLeft" t="textAreaTop" r="textAreaRight" b="textAreaBottom"/>
            <a:pathLst>
              <a:path w="21600" h="21600">
                <a:moveTo>
                  <a:pt x="0" y="17204"/>
                </a:moveTo>
                <a:lnTo>
                  <a:pt x="14104" y="17204"/>
                </a:lnTo>
                <a:lnTo>
                  <a:pt x="14104" y="7200"/>
                </a:lnTo>
                <a:lnTo>
                  <a:pt x="11004" y="7200"/>
                </a:lnTo>
                <a:lnTo>
                  <a:pt x="1630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962160" y="502920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16200000">
            <a:off x="2895480" y="502920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174920" cy="2838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716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5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İKOAGÜLAN SIV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trat kalsiyum ile şelazyon ya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00 ml sıvı için 14 ml sitrat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ruyucu sıvılar glükoz-dekstroz, adenin ve fosfat kombinasyonları içer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PDA                35 g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CD*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21 g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DSOL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7 g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G-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42 g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* Genellikle aferez uygulamalarında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8560" y="285480"/>
            <a:ext cx="62499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NKA  K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PDA-1’li torbalarda plazma potasyumu başlangıçta 5.1  mEq/L iken, 35. Günde 78.5 mEq/L’ye çı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durum, yenidoğan ve renal fonksiyon bozukluğu olanlarda önem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daki hemoliz saklama süresiyle orantılı olarak a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best hemoglobin başlangıçta 78 mg/L iken, 35. Günde 658 mg/L’ye çı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2808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M K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dan alındıktan sonra işlem görmeksizin kullanılan k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lama olarak 450 ml (± %10)’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ritrosit, trombosit, lökosit, plazma ve pıhtılaşma faktörlerinden meydana ge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lama hematokriti %36-37’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lazma 250 ml, eritrositler 200 ml’sini oluştur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+4°C’de 48 saatte trombositler fonksiyonlarını kaybede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134136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ktör V beşinci günde %80, 14. günde ise %50 aktif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ktör VIII 1-2 gün içinde normalin %50’sine, 5 gün sonra %30’una 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ktör XI 7. günde normalin % 20’si kad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ünümüzde tam kan nadiren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1640" y="475920"/>
            <a:ext cx="2808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M K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İTROSİT SÜSPANSİY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6436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lazmasının 3/4’ü alınmış k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işlem için tam kan torbasına bağlı ikinci bir torba daha bulu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 santrifüj ve ekstraktör yardımıyla ilk torbada sadece eritrosit süspansiyonu (ES), ikinci torbada plazma ka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S içinde 50-70 ml plazma ka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S hacmi yaklaşık olarak 200 ml kad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atokriti %70-80’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klama süreleri tam kan gib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51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21:25:48Z</dcterms:created>
  <dc:creator>HUSNU</dc:creator>
  <dc:description/>
  <dc:language>en-US</dc:language>
  <cp:lastModifiedBy>DELL</cp:lastModifiedBy>
  <dcterms:modified xsi:type="dcterms:W3CDTF">2006-10-19T16:08:28Z</dcterms:modified>
  <cp:revision>258</cp:revision>
  <dc:subject/>
  <dc:title>Slayt Başlığı Yok</dc:title>
</cp:coreProperties>
</file>