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2DA7A-E9D0-4DC1-AE39-02FB01B4D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A670D-1B19-404B-A1F8-3EAC11C22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B79BD-CE4A-4861-9944-24DE4DA93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42D95-EF1D-47EC-8FF0-D1AE3C8C0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67239-DD87-44E7-9A6A-A3FE75B1E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9DE9F-5643-4B83-9BDA-CA83A4CB5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BB2C3-A656-4E8A-8BC2-61B8D40C4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75280-2A80-47D4-853C-FC0ECB289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4BC1D-306A-47C0-A459-5C15688D0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70974-592D-432C-A1E0-089486146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11614-F68B-491B-A95D-0B1DE2F7E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AF67D-62CD-465D-97CC-4D1198E47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6566-0E8F-41FC-82A6-678B55A278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560" y="2636640"/>
            <a:ext cx="720108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KAN BAĞIŞÇI TİPLERİ</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79280" y="909000"/>
            <a:ext cx="8964720" cy="472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Transfüzyonunun ilk dönemlerinde kanın herhangi bir zararı olabileceği bilinmediğinden kan bağışçısının özelliklerinden çok sayısına önem verilmiştir. Yani </a:t>
            </a:r>
            <a:r>
              <a:rPr b="1" lang="en-US" sz="2800" spc="-1" strike="noStrike" u="sng">
                <a:solidFill>
                  <a:srgbClr val="000000"/>
                </a:solidFill>
                <a:uFillTx/>
                <a:latin typeface="Arial"/>
              </a:rPr>
              <a:t>“kan bağışçısı”</a:t>
            </a:r>
            <a:r>
              <a:rPr b="1" lang="en-US" sz="2800" spc="-1" strike="noStrike">
                <a:solidFill>
                  <a:srgbClr val="000000"/>
                </a:solidFill>
                <a:latin typeface="Arial"/>
              </a:rPr>
              <a:t> değil </a:t>
            </a:r>
            <a:r>
              <a:rPr b="1" lang="en-US" sz="2800" spc="-1" strike="noStrike" u="sng">
                <a:solidFill>
                  <a:srgbClr val="000000"/>
                </a:solidFill>
                <a:uFillTx/>
                <a:latin typeface="Arial"/>
              </a:rPr>
              <a:t>“kan bağışı”</a:t>
            </a:r>
            <a:r>
              <a:rPr b="1" lang="en-US" sz="2800" spc="-1" strike="noStrike">
                <a:solidFill>
                  <a:srgbClr val="000000"/>
                </a:solidFill>
                <a:latin typeface="Arial"/>
              </a:rPr>
              <a:t> hedeflenmişti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an bağışı sadece tıbbi ve teknik konularla değil aynı zamanda sosyoloji ile de çok yakından bağlantılıdı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68360" y="476280"/>
            <a:ext cx="82090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1" lang="tr-TR" sz="2800" spc="-1" strike="noStrike">
                <a:solidFill>
                  <a:srgbClr val="000000"/>
                </a:solidFill>
                <a:latin typeface="Arial"/>
              </a:rPr>
              <a:t>Bu durum kan bağışının ilk günlerinden beri bilinmekle beraber sosyolojik yönü de içine alan ilk bağışçı sınıflandırma çalışmasını İngiliz sosyo-ekonomisti Prof. Richard Titmus (London School of Economics) tarafından 1970 yılında “Hediye İlişkisi (The Gift Relationship)” adlı kitabında ele almıştır. </a:t>
            </a:r>
            <a:endParaRPr b="0" lang="en-US" sz="2800" spc="-1" strike="noStrike">
              <a:solidFill>
                <a:srgbClr val="000000"/>
              </a:solidFill>
              <a:latin typeface="Arial"/>
            </a:endParaRPr>
          </a:p>
        </p:txBody>
      </p:sp>
      <p:pic>
        <p:nvPicPr>
          <p:cNvPr id="44" name="" descr=""/>
          <p:cNvPicPr/>
          <p:nvPr/>
        </p:nvPicPr>
        <p:blipFill>
          <a:blip r:embed="rId1"/>
          <a:stretch/>
        </p:blipFill>
        <p:spPr>
          <a:xfrm>
            <a:off x="2484360" y="3789360"/>
            <a:ext cx="4103640" cy="280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68360" y="825480"/>
            <a:ext cx="8675640" cy="5060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BAĞIŞÇI TİPLERİ, TANI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ip A (paralı bağışçı)</a:t>
            </a:r>
            <a:r>
              <a:rPr b="0" lang="en-US" sz="2800" spc="-1" strike="noStrike">
                <a:solidFill>
                  <a:srgbClr val="000000"/>
                </a:solidFill>
                <a:latin typeface="Arial"/>
              </a:rPr>
              <a:t> Kanını piyasa durumuna göre belirlediği bir bedel karşılığında satan kişiyi tanımla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ip B (profesyonel bağışçı)</a:t>
            </a:r>
            <a:r>
              <a:rPr b="0" lang="en-US" sz="2800" spc="-1" strike="noStrike" u="sng">
                <a:solidFill>
                  <a:srgbClr val="000000"/>
                </a:solidFill>
                <a:uFillTx/>
                <a:latin typeface="Arial"/>
              </a:rPr>
              <a:t> </a:t>
            </a:r>
            <a:r>
              <a:rPr b="0" lang="en-US" sz="2800" spc="-1" strike="noStrike">
                <a:solidFill>
                  <a:srgbClr val="000000"/>
                </a:solidFill>
                <a:latin typeface="Arial"/>
              </a:rPr>
              <a:t>Para veya izin gibi ödülü almak için düzenli aralıklarla kanını satan kişiyi tanımla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ip C (paralı veya yönlendirilmiş bağışçı)</a:t>
            </a:r>
            <a:r>
              <a:rPr b="0" lang="en-US" sz="2800" spc="-1" strike="noStrike">
                <a:solidFill>
                  <a:srgbClr val="000000"/>
                </a:solidFill>
                <a:latin typeface="Arial"/>
              </a:rPr>
              <a:t> Kanını satan ancak para olmasa da kanını verebileceğini belirten kişiyi tanım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50920" y="1052640"/>
            <a:ext cx="87138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ip D (sorumluluk bedeli bağışçısı)</a:t>
            </a:r>
            <a:r>
              <a:rPr b="0" lang="en-US" sz="2800" spc="-1" strike="noStrike">
                <a:solidFill>
                  <a:srgbClr val="000000"/>
                </a:solidFill>
                <a:latin typeface="Arial"/>
              </a:rPr>
              <a:t> Kendisine kullanılan kan için (test ücreti hariç) para ödemek yerine bağışçı bulmak veya ödediği parayı geri almak için sonradan bağışçı getirilmesi durumundaki kişiyi tanımla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ip E (aile kredi bağışçısı)</a:t>
            </a:r>
            <a:r>
              <a:rPr b="0" lang="en-US" sz="2800" spc="-1" strike="noStrike">
                <a:solidFill>
                  <a:srgbClr val="000000"/>
                </a:solidFill>
                <a:latin typeface="Arial"/>
              </a:rPr>
              <a:t> İleride kendisi veya ailesine kan gerektiğinde kan bulabilmek için önceden belli aralıklarla (en az yılda 1 kez) kan bağışlayan kişiyi tanımla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24000" y="826920"/>
            <a:ext cx="85690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ip F (zorunlu kan bağışçısı)</a:t>
            </a:r>
            <a:r>
              <a:rPr b="0" lang="en-US" sz="2800" spc="-1" strike="noStrike">
                <a:solidFill>
                  <a:srgbClr val="000000"/>
                </a:solidFill>
                <a:latin typeface="Arial"/>
              </a:rPr>
              <a:t> Bulunduğu sosyal konum gereği kendisinden kan bağışlaması istendiğinde ret edebilme şansı olmayan kişiyi tanımla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ip G (ödüllendirilmiş bağışçı)</a:t>
            </a:r>
            <a:r>
              <a:rPr b="0" lang="en-US" sz="2800" spc="-1" strike="noStrike">
                <a:solidFill>
                  <a:srgbClr val="000000"/>
                </a:solidFill>
                <a:latin typeface="Arial"/>
              </a:rPr>
              <a:t> Kan bağışı karşılığında para dışında verilen ödülü alabilmek için kan bağışında bulunan kişiyi tanımla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ip H (gönüllü toplumsal kan bağışçısı)</a:t>
            </a:r>
            <a:r>
              <a:rPr b="0" lang="en-US" sz="2800" spc="-1" strike="noStrike">
                <a:solidFill>
                  <a:srgbClr val="000000"/>
                </a:solidFill>
                <a:latin typeface="Arial"/>
              </a:rPr>
              <a:t> Teşvik edici ödül, para ve baskı olmaksızın tamamen kendi özgür iradesi ile kan bağışlayan kişiyi tanıml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00" y="609840"/>
            <a:ext cx="8569080" cy="56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1970’den günümüze kadar kan bağışçı tiplerinin terminolojik açıdan  tanımı konusunda yapılmış sınırlı sayıda çalışma bulunmaktadı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Yapılanlar da konuyu hemen hemen aynı bakış açısından </a:t>
            </a:r>
            <a:r>
              <a:rPr b="1" lang="en-US" sz="2800" spc="-1" strike="noStrike">
                <a:solidFill>
                  <a:srgbClr val="000000"/>
                </a:solidFill>
                <a:latin typeface="Arial"/>
              </a:rPr>
              <a:t>(karşılık)</a:t>
            </a:r>
            <a:r>
              <a:rPr b="1" lang="en-US" sz="2800" spc="-1" strike="noStrike">
                <a:solidFill>
                  <a:srgbClr val="000000"/>
                </a:solidFill>
                <a:latin typeface="Arial"/>
              </a:rPr>
              <a:t> ele alan farklı çalışmalar olmaktan öte gidememişti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unlardan bir tanesi </a:t>
            </a:r>
            <a:r>
              <a:rPr b="1" lang="en-US" sz="2800" spc="-1" strike="noStrike">
                <a:solidFill>
                  <a:srgbClr val="000000"/>
                </a:solidFill>
                <a:latin typeface="Arial"/>
              </a:rPr>
              <a:t>Dünya Sağlık Örgütü’nce</a:t>
            </a:r>
            <a:r>
              <a:rPr b="1" lang="en-US" sz="2800" spc="-1" strike="noStrike">
                <a:solidFill>
                  <a:srgbClr val="000000"/>
                </a:solidFill>
                <a:latin typeface="Arial"/>
              </a:rPr>
              <a:t> (DSÖ) yapılmış olandır ve bağışçısını “karşılık” kavramını esas alarak 3 ana başlık altında ele almaktır. Bunl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icari kan bağışçıs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Takas kan bağışçıs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Gönüllü kan bağışçıs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95280" y="628560"/>
            <a:ext cx="8447040" cy="521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Dünyada olduğu kadar ülkemizde de kan bağışçı tiplerinin terminolojisinin olabildiğince açık ve farklı yönlerden tanımlanmasına gereksinim duyulmaktadı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ünümüz tıbbi, teknik, sosyolojik, ekonomik ve tarihsel şartları altında kan bağışçı tiplerini beş ana başlık altında ele almanın doğru olacağı düşünülerek </a:t>
            </a:r>
            <a:r>
              <a:rPr b="1" lang="en-US" sz="2800" spc="-1" strike="noStrike">
                <a:solidFill>
                  <a:srgbClr val="000000"/>
                </a:solidFill>
                <a:latin typeface="Arial"/>
              </a:rPr>
              <a:t>özgün bir terminolojik tanımlamaya</a:t>
            </a:r>
            <a:r>
              <a:rPr b="1" lang="en-US" sz="2800" spc="-1" strike="noStrike">
                <a:solidFill>
                  <a:srgbClr val="000000"/>
                </a:solidFill>
                <a:latin typeface="Arial"/>
              </a:rPr>
              <a:t> gidilmiştir.</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9280" y="333360"/>
            <a:ext cx="864252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000000"/>
                </a:solidFill>
                <a:uFillTx/>
                <a:latin typeface="Arial"/>
              </a:rPr>
              <a:t>I)Bağış uygulaması tipine göre</a:t>
            </a:r>
            <a:r>
              <a:rPr b="1" lang="tr-TR" sz="2800" spc="-1" strike="noStrike" u="sng">
                <a:solidFill>
                  <a:srgbClr val="000000"/>
                </a:solidFill>
                <a:uFillTx/>
                <a:latin typeface="Arial"/>
              </a:rPr>
              <a:t>;</a:t>
            </a:r>
            <a:r>
              <a:rPr b="0" lang="tr-TR" sz="2800" spc="-1" strike="noStrike">
                <a:solidFill>
                  <a:srgbClr val="000000"/>
                </a:solidFill>
                <a:latin typeface="Arial"/>
              </a:rPr>
              <a:t> tam kan bağışçısı, aferez bağışçıs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000000"/>
                </a:solidFill>
                <a:uFillTx/>
                <a:latin typeface="Arial"/>
              </a:rPr>
              <a:t>II)Kullanacak kişiye göre;</a:t>
            </a:r>
            <a:r>
              <a:rPr b="0" lang="tr-TR" sz="2800" spc="-1" strike="noStrike">
                <a:solidFill>
                  <a:srgbClr val="000000"/>
                </a:solidFill>
                <a:latin typeface="Arial"/>
              </a:rPr>
              <a:t> allogeneik kan bağışçısı, otolog kan bağışçıs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000000"/>
                </a:solidFill>
                <a:uFillTx/>
                <a:latin typeface="Arial"/>
              </a:rPr>
              <a:t>III)Sosyal yapısına göre;</a:t>
            </a:r>
            <a:r>
              <a:rPr b="0" lang="tr-TR" sz="2800" spc="-1" strike="noStrike">
                <a:solidFill>
                  <a:srgbClr val="000000"/>
                </a:solidFill>
                <a:latin typeface="Arial"/>
              </a:rPr>
              <a:t> sivil kan bağışçısı, asker kan bağışçısı, akraba kan bağışçısı, takas kan bağışçısı, yönlendirilmiş kan bağışçısı, yürüyen kan bağışçısı, göçmen kan bağışçısı, gönüllü kan bağışçısı, ödüllendirilmiş kan bağışçısı, sürekli gönüllü kan bağışçısı, sürekli, sorumlu gönüllü kan bağışçıs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000000"/>
                </a:solidFill>
                <a:uFillTx/>
                <a:latin typeface="Arial"/>
              </a:rPr>
              <a:t>IV)Tarihsel incelemeye göre;</a:t>
            </a:r>
            <a:r>
              <a:rPr b="0" lang="tr-TR" sz="2800" spc="-1" strike="noStrike">
                <a:solidFill>
                  <a:srgbClr val="000000"/>
                </a:solidFill>
                <a:latin typeface="Arial"/>
              </a:rPr>
              <a:t> kadavra kan bağışçıs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000000"/>
                </a:solidFill>
                <a:uFillTx/>
                <a:latin typeface="Arial"/>
              </a:rPr>
              <a:t>V)Diğer;</a:t>
            </a:r>
            <a:r>
              <a:rPr b="0" lang="tr-TR" sz="2800" spc="-1" strike="noStrike">
                <a:solidFill>
                  <a:srgbClr val="000000"/>
                </a:solidFill>
                <a:latin typeface="Arial"/>
              </a:rPr>
              <a:t> kanını satan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7T21:25:48Z</dcterms:created>
  <dc:creator>HUSNU</dc:creator>
  <dc:description/>
  <dc:language>en-US</dc:language>
  <cp:lastModifiedBy>DELL</cp:lastModifiedBy>
  <dcterms:modified xsi:type="dcterms:W3CDTF">2006-10-19T14:40:06Z</dcterms:modified>
  <cp:revision>244</cp:revision>
  <dc:subject/>
  <dc:title>Slayt Başlığı Yok</dc:title>
</cp:coreProperties>
</file>