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926-77CC-41AF-B5A7-20FC6BE2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859-622D-4374-873B-B575986A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913-D2F2-4CEB-89A2-7CE07D3F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B05-3F01-4936-95AA-9FEB24C6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BAB-8C87-4B70-BB7D-BA9B1780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248-9C68-4C55-A809-B0DC8972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D62-362E-4FBB-B236-2DC2D6B9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985-5AE9-4C16-8432-FEB5D7FC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ED1-0058-484A-B419-51FBE844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6A6-E956-4CF1-8FDD-9D43A3BE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38F-8D6C-4B70-858B-540E98C1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9AF-4013-4FFA-B700-681E448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2945-C2E0-427A-A3BD-FAD7D1049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9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AĞIŞÇI 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EÇİM KRİTERLERİ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260280"/>
            <a:ext cx="8425080" cy="63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2- Bağışçı olmaya mutlak engel teşkil eden hastalık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u Gehrig Hastalığ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ös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elanom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ikosis Fung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rak hücre anemis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Paroksismal Nokturnal Hemoglobinü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Pneumocystis Carini Pnömonis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ura Mater Gref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mokromatozi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editer Sferosit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odgkin Hastalığ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TLV pozitif ol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476280"/>
            <a:ext cx="8569080" cy="54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2- Bağışçı olmaya mutlak engel teşkil eden hastalık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posi Sarkomu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rdiyomyop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njestif Kalp Yetmezliğ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ronik Granuloma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ronik renal yetmezli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hlers Danlos Sendr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6PD Eksikliğ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airy Cell Lös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mofil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BV ve HCV taşıyıcı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96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I- BAĞIŞÇI OLMAYA GEÇİCİ OLAR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GEL OLUŞTURAN DURU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Riskli aktivitelerde bulun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1- Riskli aktivitelerde bulun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ayatını cinsel ilişkide bulunarak kazananlar ile cinsel ilişkiye girenler 12 ay kan bağışlay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ronik genital herpesi olanlar tedavi tamamlandıktan 12 ay sonrasına kadar  kan bağışlay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kain kullananlar son kullanımdan 1 ay sonrasına kadar kan bağışlay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filiz geçirenler, serolojik testleri negatifleştikten 12 ay sonrasına kadar kan  bağışlay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onore, Klamidya gibi veneral hastalıklarda tedavi tamamlandıktan 12 ay sonrasına kadar kan bağışlan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620640"/>
            <a:ext cx="87854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- Riskli aktivitelerde bulun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 uyuşturucu bağımlıları ile cinsel ilişkiye girenler 12 ay sonrasına kadar  kan bağışlaya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 12 ay içerisinde aktif viral hepatitli biri ile yakın temasta bulunanlar kan bağışlaya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 12 ay içinde iğne ile dövme, akupunktur, kulak veya cilt deldirme gibi işlemleri yaptıranlar kan bağışlaya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-Bağışa geçici olarak engel o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zı durum ve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şi kendini iyi ve sağlıklı hisset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-65 yaş arasındaki kişiler kan bağışlay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rgunluk, uykusuzluk varsa 24 saat   bağış ertel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 aç olmamalı, son öğünde bir şeyler yemiş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 kan bağışının üzerinden en az 2 ay geçmiş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642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-Bağışa geçici olarak engel o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zı durum ve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628640"/>
            <a:ext cx="813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ğuk Algınlığ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tif bulgular geçtikten 72 saat sonra kan veril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lary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ıtma geçiren ve tedavi olanlar iyileştikten sonra yeni bir tedavi görmeksizin en az 3 yıl geçici ret kararı verilir. Sıtmanın endemik olduğu yerlerden gelen göçmenler veya ziyaretçiler herhangi bir tedavi görmeden en az 3 yıl sağlıklı olmaları halinde bağışçı olabilirler. Sıtmanın endemik olduğu yerlere kısa süre ile gidenler 6 ay süre ile geçici olarak ret edili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40464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2-Bağışa geçici olarak engel o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azı durum ve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CMV Enfeksiyonu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astalığın akut döneminde kan bağışı ertelenir, kronik CMV veya asemptomatik antikor pozitif taşıyıcılar kan bağışlaya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Mantar Enfeksiyonlar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ltta yatan neden öncelikle değerlendirilmelidir. Superficial veya lokal enfeksiyonlar kan bağışı için engel değildir. Kan alınacak bölgede enfeksiyon olmamalı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iardiasis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davi bittikten 1 hafta sonrasına kadar kan bağışı alın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333360"/>
            <a:ext cx="842472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2-Bağışa geçici olarak engel o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azı durumlar ve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rucella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rucellanın endemik olduğu bölgelerde bağışçı sorgusunda Brucella sorgusuna önem verilmelidir. Tam iyileşmeyi takiben 2 yıl sonra bağışçı olabil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Paraziter Enfestasyonla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davi bitene ve tam şifa bulana kadar kan bağışı alın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ızamık, 5. hastalık, kabakulak vb. damlacık yolu ile bulaşan viral hastalıklar ve bu hastalar ile teması olanla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1 gün bağışı erteleni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- 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12536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Shigella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am şifaya kavuştuktan ve son diare epizotunun üzerinden 72 saat geçtikten sonra kan bağışı alın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oksoplazmosis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am şifayı takiben ve spesifik IgM antikorları kaybolduktan 2 yıl sonra bağışçı ol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überküloz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ktif enfeksiyonda tedavi bittikten 2 yıl sonrasına kadar bağışçı olamaz. Etkenle karşılaşmış, proflaktik antitüberküloz ilaç alıyor ve akciğer filmi temizse bağışçı ola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748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anım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Alıcı için en güvenilir kanın sağlanabileceği kişinin bulunmasına yönelik işlemlerin tümünü tanı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ncelik “</a:t>
            </a: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bağışçının sağlık durumu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” na ve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2857 sayılı Kan ve Kan Ürünleri Yas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Madde 3-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n alınmasında, kan ve kan ürünlerinin verilmesinde verici ve alıcının sağlığının tehlikeye düşürülmemesi ve korunması </a:t>
            </a: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esastır</a:t>
            </a: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0792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rikomonas vaginalis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davi bittikten 12 ay sonra kan bağışlay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Zona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ktif lezyonlar varken ve 1 hafta sonrasına kadar bağışçı ola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Viral Hepatitle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11 yaş sonrası viral hepatit geçirenler bağışçı olamazlar. HAV söz konusu ise tam şifayı takiben 2 yıl sonra kan bağışı alın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21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26828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stım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semptomatikse, oral steroid tedavisi almıyorsa bağışçı ol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öğüs ağrıs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lp hastalığına bağlı değilse bağışçı ol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ronik bronşit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semptomatik ise kan verebilir.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OAH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ipoksi bulgusu bulunmayan ve durumu stabil olanlar kan bağışlaya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Pnömon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davi tamamlanıp tam şifa bulduktan 72 saat sonra kendini iyi hissediyors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Üst Solunum Yolu Hastalıklar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davi tamamlanıp tam şifa bulduktan 72 saat sonra kendini iyi hissediyors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680" y="333360"/>
            <a:ext cx="84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18584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onsillit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davi tamamlanıp tam şifa bulduktan 72 saat sonra kendini iyi hissediyorsa kan v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nevrizmala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errahi olarak tedavi edilmiş ve 1 yıl geçmişse bağışçı ol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Hipertansiyon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n basıncı bağış için kabul edilir sınırlarda olan, ilaç kullanan veya kullanmayan hipertansiyon hastaları kan bağışında bulunabil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ngina Pektoris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itrogliserin preparatlarının kullanımı gerekiyorsa bağış 1 yıl ertelenir. 1 yıl sonra bağışçının durumu tekrar değerlendir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njioödem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lp yetmezliği yoksa bağışçı ol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268280"/>
            <a:ext cx="85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34136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ort Stenozu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Bağışçı olamaz.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ritmiler: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Bağışçının aritmi için ilaca gereksinimi  yoksa, beraberinde başka kalp problemi yoksa ve kan merkezine geldiğinde asemptomatik ise kan bağışlay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ardiyak Defektler: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Bağışçı tamamen iyileşmiş, asemptomatik ve ameliyatı takiben 1 yıl sonr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oroner arter by pass ameliyatı: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meliyattan 1 yıl sonra, asemptomatik ise, normal aktivitelerine dönmüşse, kalp ilacı kullanmıyors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981000"/>
            <a:ext cx="878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alpte Üfürüm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ktivite sınırlaması ve kalp ilacı kullanımı söz konusu değilse kan bağışı alın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Myokard Infarktüsü (MI)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semptomatikse, aktivite sınırlaması yoksa, kalp ilaçları kullanmıyorsa, takip eden doktorun yazılı onayı varsa MI’dan 1 yıl sonra kan vere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Crohn Hastalığ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mmünsupressif tedavi almıyorsa bağışçı ol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iare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emptomlar geçtikten 72 saat sonra kan bağışı alın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ilbert Sendromu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Sarılıkla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nfeksiyonlar ve kanserler dışındaki sarılık nedenleri kan bağışı için engel değil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8320" y="260280"/>
            <a:ext cx="84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268280"/>
            <a:ext cx="85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981000"/>
            <a:ext cx="84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07920"/>
            <a:ext cx="82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Splenektom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ravma nedeniyle yapılmışsa kan bağışı için engel değildir. Bir hastalığın tedavisi için yapılmışsa sebebe göre değerlendirilmeli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Colitis Ülseroza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semptomatikse ve 1 aydır idame tedavisi almıyorsa bağışçı ol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İS Kanamalar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tiyolojisi aydınlanmamış kanama hikayesi olan bağışçılardan kan alınmamalıdır. Tedavi olanlar eğer transfüzyon almamışlar ve hemoglobin düzeyleri normalse bağışçı olabil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öbrek Parankim Hastalıklar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davi olmuş ve renal fonksiyon bozukluğu olmayan kişiler kan verebili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836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bortus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beliğin ilk trimestrinde olmuşsa (12 hafta) bağışçı olması için engel yoktur. İlk trimestrden sonraki abortlar için bağış 6 hafta ertelenmeli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enign Prostat Hipertrofisi (BPH)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ullandığı ilaçlara göre karar verilir. İlaç kullanmıyors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Süt veren anne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ktopik Gebelik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6 hafta kan verem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Menstruasyon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Hematür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ltta yatan neden anlaşılıncaya dek kan bağışı erte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240" y="189000"/>
            <a:ext cx="84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268280"/>
            <a:ext cx="85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981000"/>
            <a:ext cx="84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206064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34136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PID (Pelvik İnflamatuar Hastalık)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neral bir etken söz konusu değilse, tedavi tamamlanıp tam şifa bulduktan 72 saat sonr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Uterin Kanama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ltta yatan neden aydınlanana kadar kan bağışı erte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onvülziyon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açla veya ilaçsız olarak geçe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3 yıl içinde konvülziyon geçirmemişse kabul edil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Psikoz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izofreni, manik-depressif gibi hastalıklarda hastanın mental durumu ve yasal olarak sorumluluk alma durumu değerlendirilmelidir.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Bağışçı olarak </a:t>
            </a:r>
            <a:r>
              <a:rPr b="0" i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abul edilmemesi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tercih ed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26828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Fobile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zellikle kan görme, iğne gibi fobileri olanlar tedavi olana kadar bağışçı olarak kabul edilemez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Panik Atak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davi olduktan sonra (ilaç alırken veya almıyorken) kan v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Serebral Pals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n vermeye engel olacak istemsiz hareketler yoksa kan v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Myastenia Gravis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semptomatikse ve son 1 aydır idame tedavisi almıyors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240" y="333360"/>
            <a:ext cx="84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06064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26828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iabetes Mellitus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iyetle, oral antidiabetiklerle veya insülin tedavisi ile stabilite sağlanmışsa, komplikasyonlar söz konusu değilse kan bağışı alınabilir. İnsülin kullanan bağışçılar mutlaka tok olarak kan bağışlamalı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Havyan kaynaklı insülin preparatları kan bağışı için engel  oluşturmaktadır. Rekombinant teknoloji ürünü insülin preparatları ise  kan bağışı için engel teşkil etm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iabetes İnsipidus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n bağışı için engel değil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341360"/>
            <a:ext cx="864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ğışçı reddinin nedeni yönünden hastalıklar iki  başlık üzerinden düşünülebilir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Kan alındığında bağışçının görebileceği za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Kanın verilmesi halinde alıcının görebileceği za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06064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83664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raves Hastalığ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titiroid tedavi kesilmiş, tiroid fonksiyonları normal ise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ut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ntrol altında ise kan verebilir.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Hashimoto Tiroidit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kut dönemden sonra kan v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nemile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eminin etyolojisi iyi değerlendirilmelidir. Demir eksikliği anemisi tedavisi tamamlanmış ve hemoglobin seviyesi normalse bağışçı ol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Otoimmün Hastalıkla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mmünsupressif veya steroid tedavisi almayan, asemptomatik olan bağışçılar kan verebili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emik İliği Bağışçıs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ğışdan 8 hafta sonr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268280"/>
            <a:ext cx="85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06064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07920"/>
            <a:ext cx="828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Hemolitik Anemile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am iyileşmeden sonr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SLE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mmünsupressif veya steroid tedavisi almayan, asemptomatik olanlar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Lenfadenopat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ltta yatan nedene göre karar verilmeli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Pernisiyöz Anem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moglobin seviyesi normal ise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alasemi Taşıyıcılar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moglobin seviyesi normal ise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llerj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ğış için engel değil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Ürtike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n alınacak bölgede lezyon yoksa bağış alına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12536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rı Sokması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1 gün bağış erte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meliyatla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ncelikle ameliyat gerektiren hastalık  değerlendirilmelidir. Doktor takibinden ayrılmış, kendini iyi hissediyor ve normal aktivitelerine dönmüşse bağışçı olarak kabul edilir. Transfüzyon almışsa 12 ay bağışçı ol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Minör cerrahi prosedürle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ra iyileşene ve dikişler alınana kadar bağışçı ol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anse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kalize cilt kanserleri, in situ karsinomlar tam şifadan sonra bağışçı olabilir. Bunun dışındaki malign hastalıklarda kan bağışı kabul edilm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600" y="404640"/>
            <a:ext cx="84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642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Bağışa geçici olarak engel olan bazı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6286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206064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2064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eyin Ameliyat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asküler problem yok, ameliyattan sonra 12 ay epileptik kriz geçirmemişse kan vere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Alçılar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palı ve küçük kırıklar kan bağışına engel oluşturmaz. Herhangi bir cerrahi işlem uygulanmış, alçı çıkartılana, tüm yaralar iyileşene bağış alın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Baş Ağrısı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çince kan verebil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Diş Tedavisi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iş çekimi, kanal tedavisi gibi invaziv girişimlerden sonra 3 gün bağış alın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Osteoporoz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n bağışı için engel değil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Otitis Media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davisi bitip iyileştikten 72 saat sonra kan verebi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Cilt skarları (jiletçiler):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12 ay kan bağışı alına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çı seçiminde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lk basama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sorgulama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unun için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996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ılından beri TKMTD’nin önerisi ve Sağlık Bakanlığı’nın Genelgesi i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Donör Sorgulama Formu”</a:t>
            </a: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llanılmakta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2511360" cy="3122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25210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- BAĞIŞÇI OLMAYA MUTLAK ENGEL OLUŞTURAN DURU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Yüksek Riskli Aktivit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Bağışçı olmaya mutlak engel teşkil eden   durum ve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I- BAĞIŞÇI OLMAYA GEÇİCİ OLARAK ENG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LUŞTURAN DURU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Riskli aktivitelerde bulun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Bağışa geçici olarak engel olan bazı durum ve hastalı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404640"/>
            <a:ext cx="835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- Yüksek Riskli Aktivite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 testi pozitif olanlar ile cinsel ilişkide bulunmuş ol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7’den sonra erkek erkeğe cinsel ilişkide bulunmuş ol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un dışı IV ilaç kullanmış olanlar ve IV uyuşturucu bağımlı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ve uyuşturucu madde elde etmek için cinsel ilişkiye girmeyi kabul eden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3534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üney Afrika, Kamerun, Orta Afrika, Çad, Kongo gibi ülkelerin vatandaşları ve bu ülkelerde 1977’den sonra 6 aydan fazla kal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ukarıda anlatılan ülkelerde 6 aydan az kalan ancak bulunduğu süre içinde kan ve kan ürünü ile tedavi olanlar veya bu ülke vatandaşları ile cinsel ilişkide bulunmuş olan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977’den sonra pıhtılaşma faktör konsantresi kullanan hemofili hasta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1980-1996 yılları arasında İngiltere’de 3 aydan fazla kalmış olan kişiler bağışçı olarak kabul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d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memelidir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(Creutzfeld-Jacobs Hastalığı riski nedeni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0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2- Bağışçı olmaya mutlak engel teşkil eden hastalık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dison Hastalığ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nal bez yokluğ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nal probleml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nokortikal send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IV testi pozitif olan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lkolik siroz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be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erger Hastalığı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Porphiria cutanea t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öbrek Yetmezliğ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Polistem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Progressif multifokal lökoensefalop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Retiküloendotel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2- Bağışçı olmaya mutlak engel teşkil eden hastalık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ferositoz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alasemi majo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ransvers mye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on Willebrand hastalığı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Xenotransplantasy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hagas Hastalığ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reutzfeld-Jacobs Hastalı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rmatitis Herpetifo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e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21:25:48Z</dcterms:created>
  <dc:creator>HUSNU</dc:creator>
  <dc:description/>
  <dc:language>en-US</dc:language>
  <cp:lastModifiedBy>DELL</cp:lastModifiedBy>
  <dcterms:modified xsi:type="dcterms:W3CDTF">2006-10-19T15:24:45Z</dcterms:modified>
  <cp:revision>271</cp:revision>
  <dc:subject/>
  <dc:title>Slayt Başlığı Yok</dc:title>
</cp:coreProperties>
</file>