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F3F-D523-4860-A509-DBDD467D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F8F-8C9D-4F67-AF27-6B1DC8E0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BF5C-93B0-45BB-A537-EF311D56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B8D9-F9DF-4464-80D3-2BD4BDDF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EE94-815B-4D1D-83F3-D850E86F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D42E-7867-4AE4-9544-73B45B36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C316-4DE4-4E6B-94A1-DB4D8515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34FA-765B-4568-A803-F0FCE2BB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52F1-79D3-420B-AD06-50535E9C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C09E-5E09-4EC9-AE11-27E66FD3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DFB0-A60D-4243-BC17-72EBE0EA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2A4C-F2C8-48E8-8560-E56798F1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269E-15A6-418E-9C97-9E7FF0F5F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RANSFÜZYONLA BULAŞAN ENFEKSİYONL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Hepatit B Virusu Pencere Döne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1108080"/>
            <a:ext cx="727236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Hepatit B Virusu Tan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1970’lerde immundüfizyon (I. kuşak), sonra karşıt elektroforez (II. Kuşak) testleri kullanılmaya başland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1975’lerde RIA ve ELISA kullanılır oldu (III kuşa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ozitif sonuçlar nötralizasyon testi ile doğrulanmalıdı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patit C Virü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ronikleşme oranı en yüksek hepatit virüsud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iroz ve karaciğer kanseri gelişme riski en yüksek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1970-1980 yıllarında transfüzyon yapılanların %7-10’unda HCV enfeksiyonu gelişmiş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est kitlerinin kullanımının ardından risk %0.03’e gerilemiş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patit C Virü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semptomatik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%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k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ro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patit C Virüs, T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i-HCV (ikinci ve üçüncü kuşa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CV-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V, KLİNİK GİDİ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emastan 2-6 hafta sonra akut retroviral sendrom görülü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onrasında uzun bir belirtisiz dönem var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enellikle enfekte birey hastalığının farkında değil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olay tanımlanan klinik bulgusu yo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4-10 yıl içinde Semptomatik dönem (ARC) geliş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IDS, son dönem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V, T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arama testlerinde virüs en erken alındıktan 25 gün sonra tanımlanabilmekte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Üçüncü kuşak ELISA kitlerinde anti-HIV-1 ve anti-HIV-2 birlikte taran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gG ve IgM antikorları içer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ördüncü kuşak tarama testleri p24 antijeni içer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V DOĞRUL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3673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Western B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p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p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İON ENFEKSİYONL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çinde nükleik materyal bulunmayan asellüler mikroorganizmalar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n küçük virüslerden bile 100 kat daha küçüktü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SS’nde amiloid plaklar ve süngerimsi dokular oluşturan irreversibl hastalık etken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nkübasyon periyodu uzund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reutzfeldt-Jakob Disease, Bovine Spongioform Encephalopathy etken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rionlar ultraviyole ışınlarına, iyonize radyasyona, ısıya direnç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İON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820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rionlar, ultraviyole ışınlarına, iyonize radyasyona, ısıya direnç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lkol, formalin, çamaşır suyundan etkilenmez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eçerli dekontaminasy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toklavda 12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C’de 4.5 s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Otoklavda 13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C’de 1 s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1 N NaOH’de 1 saat bekletm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ansfüzyonla bulaşabildiği bildirilmiş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arama testleri araştırma aşamasında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n doğru tanı, biyopsi materyalinin patolojik incelenmesiyle kon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Viral Enfeksiyon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ansfüzyonla bulaşan viral enfeksiyon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ronik taşıyıcılı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Latent dönemi olan persistan enfeksiyon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Sifiliz</a:t>
            </a:r>
            <a:r>
              <a:rPr b="1" lang="tr-T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294920"/>
            <a:ext cx="8736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ansfüzyonla bulaşma inkübasyon dönemindeki asemptomatik kan bağışçıları ile olmakta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rimer şankr’dan 6-20 gün önce kanda bakteri buluna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0000"/>
                </a:solidFill>
                <a:latin typeface="Arial"/>
              </a:rPr>
              <a:t>T. pallidum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+4°C’de birkaç gün canlı kal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72 saati geçen kan temiz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Sifiliz Tanı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68000" y="1341000"/>
            <a:ext cx="599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-1677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Nontreponemal test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3960" indent="-1400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3960" indent="-1400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VD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eponemal test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3960" indent="-1400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3960" indent="-1400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3960" indent="-1400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FTA-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Sifil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40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enisiline son derece duyar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isk durumlarında hasta tedavi ed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irçok ülkede penisilin duyarlılığı nedeniyle çalışma gereksizdir diye düşünülmekte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cak Sifilizli kişilerin yaşam tarzı, bağış için risk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ıt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752120"/>
            <a:ext cx="8664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ansfüzyon ile bulaşması sadece intraeritrositer plasmodiumlar aracılığı ile ol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ir torba kanda 10 parazitin bile bulunması bulaşma için yeter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DP ile bulaşma olm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ıt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0000"/>
                </a:solidFill>
                <a:latin typeface="Arial"/>
              </a:rPr>
              <a:t>P. vivax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6-8 yı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0000"/>
                </a:solidFill>
                <a:latin typeface="Arial"/>
              </a:rPr>
              <a:t>P. falciparum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2 yı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0000"/>
                </a:solidFill>
                <a:latin typeface="Arial"/>
              </a:rPr>
              <a:t>P. malaria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40 yı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ndemik bölgelerde insan kanında kala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semptomatik bağışçılar bulaştırıc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40000"/>
              </a:lnSpc>
              <a:spcBef>
                <a:spcPts val="700"/>
              </a:spcBef>
              <a:buNone/>
              <a:tabLst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ıtm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n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47280" y="1484280"/>
            <a:ext cx="75963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ijen a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lın damla – İnce yayma prepa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A, ELISA, I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ikor a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A, ELISA, I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ISA testleri ucuz olması nedeni ile avantaj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40000"/>
              </a:lnSpc>
              <a:spcBef>
                <a:spcPts val="799"/>
              </a:spcBef>
              <a:buNone/>
              <a:tabLst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ıtm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2286000"/>
            <a:ext cx="85694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ıtmanın endemik olduğu yerde bulunanlar 3 yıl süreyle bağışçı olamaz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ıtma tedavisi görüp de antijen negatif olanlar 3 ay sonra kabul edilebil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emik Bölgelerde Sıtm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6756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30 gün içinde ateşli bir hastalık geçirenler bağışçı olarak kabul edilmez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ğışçılara klorokin ile kemoprofla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lıcıya bir ay süresince kemoprofilaksi uygulana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769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İmmün yetmezliği olanlarda ;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MV antikor negatif kan kullanım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Lökositsiz kan komponenti kullanım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lıcıda asiklovir profilaksis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lıcıya CMV immunglobulini uygulanm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B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828440"/>
            <a:ext cx="87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2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eterofil antikor pozitif enfeksiyöz mononükleoz etken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2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Ömür boyu taşıyıcılık ya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2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komponentlerinde lökositlerin uzaklaştırılması ile bulaşması önlene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Virus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encere dönemlerine dikkat ed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enellikle aylar süren uzun inkübasyon dönemleri var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epolanan kan ürününde uzun süreli olarak stabil kalabilir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ğ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627280" y="1196640"/>
            <a:ext cx="5184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epatit A viru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arvovirus B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uman Herpesvirus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B viru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T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bezy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la-a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rama Tes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ünümüzde transfüzyon güvenliği iç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onör seçim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arama testleri yapılmakta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üm önlemlere rağmen transfüzyonla bulaş ABD’de yapılan bir çalışma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HIV : 1/493.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HTLV: 1/641.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HCV: 1/103.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HBV: 1/63.000 olarak bulunmuşt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tin Testlerin Belirlenme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uslar arası norm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füzyonla bulaşan enfeksiyonların epidemiyoloj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yat-yarar-etkinlik değerlendirme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Ülkemizde Du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983, 2857 sayılı Kan ve Kan Ürünleri Yas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Şubat 1987 HIV tara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Nisan 1992 VDRL, HBsAg, HIV ve sıt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Şubat 1996 Anti-H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ğustos 1996 acil transfüzyonlarda hızlı tarama testleri bulundurul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kim 1997 rutin sıtma taraması kaldırılmışt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Hepatit B Viru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TH’lerin %5-10’undan sorumlud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BsAg pozitif bağışçılar ömür boyu redded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aralı bağışçılarda HBsAg pozitifliği gönüllülere göre 10 kat fazla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üşük düzey HBsAg taşıyıcılığı transfüzyon bulaşında önem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encere dönemlerine dikkat ed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Hepatit B Virusu Klini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semptomat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k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ro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1429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aşıyıc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1429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ronik pers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1429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ronik ak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Hepatit B Virusu Serolo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71640" y="1557000"/>
            <a:ext cx="3672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Bs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ti-H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ti-HBc I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ti-HBc I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Be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ti-H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9:14:36Z</dcterms:created>
  <dc:creator>HÜSNÜ</dc:creator>
  <dc:description/>
  <dc:language>en-US</dc:language>
  <cp:lastModifiedBy>DELL</cp:lastModifiedBy>
  <dcterms:modified xsi:type="dcterms:W3CDTF">2006-10-19T12:02:21Z</dcterms:modified>
  <cp:revision>109</cp:revision>
  <dc:subject/>
  <dc:title>Slayt Başlığı Yok</dc:title>
</cp:coreProperties>
</file>