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53111-53F4-4938-9B65-74114CB5F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0BF7D-C247-4124-9763-91F27420E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ABC39-9ACB-4FC8-96FE-A1512B4F1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299A0-12CB-40EC-97E4-8E87B7447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B71A5-9AA5-4C61-9CE9-5F30C35DB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4E2E7-2F4B-4610-984A-AE157DA83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D57F0-6901-4AE8-A499-2361E1421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3CA26-D868-4288-A884-DF4046C6A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C4F84-CAA2-4D70-94B0-D1003C02F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76B02-BDCF-4885-B02F-13F204426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EBDED-F1B1-4191-8153-A890305CF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24BDA-00E9-41E2-8313-7C96B5876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DEBB6-47A8-4215-88D1-E31095BAD4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600" y="21333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TRANSFÜZYON KOMPLİKASYONLARI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7684920" cy="87624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80808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000000"/>
                </a:solidFill>
                <a:latin typeface="Arial"/>
              </a:rPr>
              <a:t>Geç</a:t>
            </a:r>
            <a:r>
              <a:rPr b="1" lang="en-A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tr-TR" sz="4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AU" sz="4000" spc="-1" strike="noStrike">
                <a:solidFill>
                  <a:srgbClr val="000000"/>
                </a:solidFill>
                <a:latin typeface="Arial"/>
              </a:rPr>
              <a:t>önem HT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70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 u="sng">
                <a:solidFill>
                  <a:srgbClr val="000000"/>
                </a:solidFill>
                <a:uFillTx/>
                <a:latin typeface="Arial"/>
              </a:rPr>
              <a:t>Görülme Sıklığı: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 1:20 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 u="sng">
                <a:solidFill>
                  <a:srgbClr val="000000"/>
                </a:solidFill>
                <a:uFillTx/>
                <a:latin typeface="Arial"/>
              </a:rPr>
              <a:t>M</a:t>
            </a:r>
            <a:r>
              <a:rPr b="1" lang="en-AU" sz="2800" spc="-1" strike="noStrike" u="sng">
                <a:solidFill>
                  <a:srgbClr val="000000"/>
                </a:solidFill>
                <a:uFillTx/>
                <a:latin typeface="Arial"/>
              </a:rPr>
              <a:t>ortalite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 %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% 92 - 98 </a:t>
            </a:r>
            <a:r>
              <a:rPr b="1" lang="en-AU" sz="2800" spc="-1" strike="noStrike" u="sng">
                <a:solidFill>
                  <a:srgbClr val="000000"/>
                </a:solidFill>
                <a:uFillTx/>
                <a:latin typeface="Arial"/>
              </a:rPr>
              <a:t>bildirilme</a:t>
            </a:r>
            <a:r>
              <a:rPr b="1" lang="tr-TR" sz="2800" spc="-1" strike="noStrike" u="sng">
                <a:solidFill>
                  <a:srgbClr val="000000"/>
                </a:solidFill>
                <a:uFillTx/>
                <a:latin typeface="Arial"/>
              </a:rPr>
              <a:t>mektedir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 u="sng">
                <a:solidFill>
                  <a:srgbClr val="000000"/>
                </a:solidFill>
                <a:uFillTx/>
                <a:latin typeface="Arial"/>
              </a:rPr>
              <a:t>Nedeni: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 Çoğunluğu Rh sistemi antikorlarındandır, 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Kell, Kidd, Duffy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 de olabil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 u="sng">
                <a:solidFill>
                  <a:srgbClr val="000000"/>
                </a:solidFill>
                <a:uFillTx/>
                <a:latin typeface="Arial"/>
              </a:rPr>
              <a:t>Belirti ve bulgular: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 %35 asemptomatiktir, ateş, hemoglobinde beklenmeyen azalma, sarılık, laboratuvarda damar dışı hemoliz bulguları, alloantikor saptanması, DAT pozitifliğ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7684920" cy="87624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80808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000000"/>
                </a:solidFill>
                <a:latin typeface="Arial"/>
              </a:rPr>
              <a:t>Allerjik Reaksiyonl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240" y="137160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 u="sng">
                <a:solidFill>
                  <a:srgbClr val="000000"/>
                </a:solidFill>
                <a:uFillTx/>
                <a:latin typeface="Arial"/>
              </a:rPr>
              <a:t>Görülme Sıklığı: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 %1-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Transfüzyonun 1.- 45. dakikasında ya da 2-3 saat sonra görülebil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 u="sng">
                <a:solidFill>
                  <a:srgbClr val="000000"/>
                </a:solidFill>
                <a:uFillTx/>
                <a:latin typeface="Arial"/>
              </a:rPr>
              <a:t>Nedeni: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 Çoğunlukla plazma proteinlerine, nadiren de ek solüsyon ya da sterilizasyonda kullanılan maddelere bağlı gelişir, IgA eksikliklerinde ciddi alerjik reaksiyonlar görülebil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 u="sng">
                <a:solidFill>
                  <a:srgbClr val="000000"/>
                </a:solidFill>
                <a:uFillTx/>
                <a:latin typeface="Arial"/>
              </a:rPr>
              <a:t>Belirti ve bulgular: a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kut ürtiker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, g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eneralize kaşıntı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, g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eneralize eritem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, angio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nörotik ödem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, b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ulantı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başdönmesi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bronkospazm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, h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ipotansiyon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kardiak aritmiler ve arr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228600" y="2133720"/>
            <a:ext cx="86868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 u="sng">
                <a:solidFill>
                  <a:srgbClr val="000000"/>
                </a:solidFill>
                <a:uFillTx/>
                <a:latin typeface="Arial"/>
              </a:rPr>
              <a:t>Görülme Sıklığı: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 1:5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Tedavi edilmezse </a:t>
            </a:r>
            <a:r>
              <a:rPr b="1" lang="tr-TR" sz="2800" spc="-1" strike="noStrike" u="sng">
                <a:solidFill>
                  <a:srgbClr val="000000"/>
                </a:solidFill>
                <a:uFillTx/>
                <a:latin typeface="Arial"/>
              </a:rPr>
              <a:t>ölümcüldür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, tedaviye rağmen mortalitesi %5’d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Solunum desteği çok önemlidir, </a:t>
            </a:r>
            <a:r>
              <a:rPr b="1" lang="tr-TR" sz="2800" spc="-1" strike="noStrike" u="sng">
                <a:solidFill>
                  <a:srgbClr val="000000"/>
                </a:solidFill>
                <a:uFillTx/>
                <a:latin typeface="Arial"/>
              </a:rPr>
              <a:t>hızla tedavi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 edildiğinde 48-96 saatte kendini sınırl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 u="sng">
                <a:solidFill>
                  <a:srgbClr val="000000"/>
                </a:solidFill>
                <a:uFillTx/>
                <a:latin typeface="Arial"/>
              </a:rPr>
              <a:t>Nedeni: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 transfüze edilen kandaki anti-lökosit ya da anti-HLA antikorlardır, bu antikorlar çok doğum yapmış kadınların plazmasında daha sık olabileceğinden bu tür kişilerin bağışçı olarak kabul edilmemesi önerilmişt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title"/>
          </p:nvPr>
        </p:nvSpPr>
        <p:spPr>
          <a:xfrm>
            <a:off x="0" y="5331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000000"/>
                </a:solidFill>
                <a:latin typeface="Arial"/>
              </a:rPr>
              <a:t>Transfüzyona Bağlı Akut Akciğer Hasarı</a:t>
            </a:r>
            <a:br>
              <a:rPr sz="3600"/>
            </a:br>
            <a:r>
              <a:rPr b="1" lang="tr-TR" sz="3600" spc="-1" strike="noStrike">
                <a:solidFill>
                  <a:srgbClr val="000000"/>
                </a:solidFill>
                <a:latin typeface="Arial"/>
              </a:rPr>
              <a:t>Transfusion-related acute lung injury (TRALI)</a:t>
            </a:r>
            <a:r>
              <a:rPr b="0" lang="tr-TR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228240" y="2514600"/>
            <a:ext cx="8915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 u="sng">
                <a:solidFill>
                  <a:srgbClr val="000000"/>
                </a:solidFill>
                <a:uFillTx/>
                <a:latin typeface="Arial"/>
              </a:rPr>
              <a:t>Görülme Sıklığı: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 trombosit transfüzyonlarından sonra %38, eritrosit transfüzyonlarından sonra %7 oranında görülü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 u="sng">
                <a:solidFill>
                  <a:srgbClr val="000000"/>
                </a:solidFill>
                <a:uFillTx/>
                <a:latin typeface="Arial"/>
              </a:rPr>
              <a:t>Tedavi: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 son derece basittir, ateş düşürücü veril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 u="sng">
                <a:solidFill>
                  <a:srgbClr val="000000"/>
                </a:solidFill>
                <a:uFillTx/>
                <a:latin typeface="Arial"/>
              </a:rPr>
              <a:t>Önemi: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 diğer transfüzyon reaksiyonlarıyla (hemolitik, bakteriyel, allerjik,..) karışı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title"/>
          </p:nvPr>
        </p:nvSpPr>
        <p:spPr>
          <a:xfrm>
            <a:off x="53352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000000"/>
                </a:solidFill>
                <a:latin typeface="Arial"/>
              </a:rPr>
              <a:t>Hemolitik Olmayan Transfüzyona Bağlı Ateş Reaksiyonları </a:t>
            </a:r>
            <a:br>
              <a:rPr sz="3600"/>
            </a:br>
            <a:r>
              <a:rPr b="1" lang="tr-TR" sz="3600" spc="-1" strike="noStrike">
                <a:solidFill>
                  <a:srgbClr val="000000"/>
                </a:solidFill>
                <a:latin typeface="Arial"/>
              </a:rPr>
              <a:t>Febrile Non-Haemolytic Transfusion Reactions (FNHTR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0" y="251424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 u="sng">
                <a:solidFill>
                  <a:srgbClr val="000000"/>
                </a:solidFill>
                <a:uFillTx/>
                <a:latin typeface="Arial"/>
              </a:rPr>
              <a:t>Nedeni: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 Önceki sensitizasyona bağlı hastadaki anti-lökosit ya da anti-HLA antikorlar, transfüze edilen lökositlerle reaksiyona girer; sitokin, interlökinler, pirojen maddelerin salınımına neden olurlar ve ateş yüksel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Transfüze edilen kan ürünündeki </a:t>
            </a:r>
            <a:r>
              <a:rPr b="1" lang="tr-TR" sz="2800" spc="-1" strike="noStrike" u="sng">
                <a:solidFill>
                  <a:srgbClr val="000000"/>
                </a:solidFill>
                <a:uFillTx/>
                <a:latin typeface="Arial"/>
              </a:rPr>
              <a:t>lökosit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 5 x 10</a:t>
            </a:r>
            <a:r>
              <a:rPr b="1" lang="tr-TR" sz="2800" spc="-1" strike="noStrike" baseline="30000">
                <a:solidFill>
                  <a:srgbClr val="000000"/>
                </a:solidFill>
                <a:latin typeface="Arial"/>
              </a:rPr>
              <a:t>8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’in altındaysa bu reaksiyon gelişme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53352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000000"/>
                </a:solidFill>
                <a:latin typeface="Arial"/>
              </a:rPr>
              <a:t>Hemolitik Olmayan Transfüzyona Bağlı Ateş Reaksiyonları </a:t>
            </a:r>
            <a:br>
              <a:rPr sz="3600"/>
            </a:br>
            <a:r>
              <a:rPr b="1" lang="tr-TR" sz="3600" spc="-1" strike="noStrike">
                <a:solidFill>
                  <a:srgbClr val="000000"/>
                </a:solidFill>
                <a:latin typeface="Arial"/>
              </a:rPr>
              <a:t>Febrile Non-Haemolytic Transfusion Reactions (FNHTR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228240" y="1752120"/>
            <a:ext cx="89154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 u="sng">
                <a:solidFill>
                  <a:srgbClr val="000000"/>
                </a:solidFill>
                <a:uFillTx/>
                <a:latin typeface="Arial"/>
              </a:rPr>
              <a:t>Görülme Sıklığı: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 1:200 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Transfüzyondan 1 hafta kadar sonra trombosit sayısında hızla düşme ve kanama diatezi görülü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 u="sng">
                <a:solidFill>
                  <a:srgbClr val="000000"/>
                </a:solidFill>
                <a:uFillTx/>
                <a:latin typeface="Arial"/>
              </a:rPr>
              <a:t>Nedeni: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 HPA-1a negatif alloantikor geliştiren çoğu kadın alıcılarda gözlen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Kanamalar ölümle sonlanabildiğinden acilen tedavi edilmelid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000000"/>
                </a:solidFill>
                <a:latin typeface="Arial"/>
              </a:rPr>
              <a:t>Transfüzyon Sonrası İzlenen Purpura</a:t>
            </a:r>
            <a:br>
              <a:rPr sz="3600"/>
            </a:br>
            <a:r>
              <a:rPr b="1" lang="tr-TR" sz="3600" spc="-1" strike="noStrike">
                <a:solidFill>
                  <a:srgbClr val="000000"/>
                </a:solidFill>
                <a:latin typeface="Arial"/>
              </a:rPr>
              <a:t>“Post-transfusion purpura (PTP)”</a:t>
            </a:r>
            <a:r>
              <a:rPr b="0" lang="tr-TR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0" y="2895120"/>
            <a:ext cx="91440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 u="sng">
                <a:solidFill>
                  <a:srgbClr val="000000"/>
                </a:solidFill>
                <a:uFillTx/>
                <a:latin typeface="Arial"/>
              </a:rPr>
              <a:t>Görülme Sıklığı: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 Risk faktörlerine göre değiş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Mortalitesi çok yüksektir, düşük derecelerde yaşam şansı vardı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Doku (HLA) uyumsuz bağışçılardan kan ürünü alan immün yetmezlikli hastalarda veya doku uyumlu (1. derece akraba) bağışçılardan kan ürünü alan immün sistemi sağlam kişilerde gelişebil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title"/>
          </p:nvPr>
        </p:nvSpPr>
        <p:spPr>
          <a:xfrm>
            <a:off x="152280" y="12952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000000"/>
                </a:solidFill>
                <a:latin typeface="Arial"/>
              </a:rPr>
              <a:t>Transfüzyona Bağlı Graft Versus Host Hastalığı </a:t>
            </a:r>
            <a:br>
              <a:rPr sz="3600"/>
            </a:br>
            <a:r>
              <a:rPr b="1" lang="tr-TR" sz="3600" spc="-1" strike="noStrike">
                <a:solidFill>
                  <a:srgbClr val="000000"/>
                </a:solidFill>
                <a:latin typeface="Arial"/>
              </a:rPr>
              <a:t>Transfusion associated graft versus host diseases (TA-GVHD)</a:t>
            </a:r>
            <a:r>
              <a:rPr b="0" lang="tr-TR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0" y="3352320"/>
            <a:ext cx="91440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 u="sng">
                <a:solidFill>
                  <a:srgbClr val="000000"/>
                </a:solidFill>
                <a:uFillTx/>
                <a:latin typeface="Arial"/>
              </a:rPr>
              <a:t>Belirti ve bulgular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: ağır cilt lezyonları, karaciğer yetmezliği, pansitopeni, ölü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Transfüze edilen üründeki lenfositlerin gamma irradiasyonla üremesinin önlenmesi gerek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title"/>
          </p:nvPr>
        </p:nvSpPr>
        <p:spPr>
          <a:xfrm>
            <a:off x="152280" y="12952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000000"/>
                </a:solidFill>
                <a:latin typeface="Arial"/>
              </a:rPr>
              <a:t>Transfüzyona Bağlı Graft Versus Host Hastalığı </a:t>
            </a:r>
            <a:br>
              <a:rPr sz="3600"/>
            </a:br>
            <a:r>
              <a:rPr b="1" lang="tr-TR" sz="3600" spc="-1" strike="noStrike">
                <a:solidFill>
                  <a:srgbClr val="000000"/>
                </a:solidFill>
                <a:latin typeface="Arial"/>
              </a:rPr>
              <a:t>Transfusion associated graft versus host diseases (TA-GVHD)</a:t>
            </a:r>
            <a:r>
              <a:rPr b="0" lang="tr-TR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87720" y="304920"/>
            <a:ext cx="8347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İMMÜNOLOJİK OLMAYA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RANSFÜZYON REAKSİYONLAR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590920" y="2133720"/>
            <a:ext cx="4495680" cy="35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Hiperkalem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Sitrat toksisite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Hipoterm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Dolaşım yüklenme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Hemosideroz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Hemoli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İPERKALEM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52280" y="1523880"/>
            <a:ext cx="88394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Banka kanında üç hafta içerisinde potasyum düzeyi 5-6 katına çık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Hiperkalemi, elektrokardiografik değişikliklere ve  kardiak arreste neden olabil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Böbrek fonksiyonu bozuk hastalar, yenidoğan ve masif transfüzyon alanlarda risk oluştur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228600" y="91440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Kan ve kan komponentlerinin infüzyonuna bağlı meydana gelen istenmeyen reaksiyonlar </a:t>
            </a:r>
            <a:r>
              <a:rPr b="1" lang="tr-TR" sz="2800" spc="-1" strike="noStrike" u="sng">
                <a:solidFill>
                  <a:srgbClr val="000000"/>
                </a:solidFill>
                <a:uFillTx/>
                <a:latin typeface="Arial"/>
              </a:rPr>
              <a:t>KAN TRANSFÜZYON REAKSİYONLARI’dı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Sıklığı: % 5-10’d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Transfüzyon sırasında karşılaşılan 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en ufak bir b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elirti veya bulgu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aşamı tehdit eden bir 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transfüzyon 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reaksiyon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olarak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 kabul edilmeli ve aynı anda tanı ve tedaviye başlanmalıdı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228600" y="1371600"/>
            <a:ext cx="868680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Masif transfüzyon, karaciğer fonksiyon bozukluğu gibi durumlarda sitratı metabolize edemeyen hastalarda toksik olabil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Kas tremoru, kardiak aritmiler ve ağız çevresinde uyuşmalar gözlen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Hipokalsemiyi önlemek için dikkatle kalsiyum glukonat veya kalsiyum klorid verilmesi semptomları düzelt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828800" y="30492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İTRAT TOKSİSİTES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304920" y="990720"/>
            <a:ext cx="8534160" cy="51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Hipotermi gelişme riski varsa kanın ısıtılması öneril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Fazla miktarda soğuk kan transfüzyonu vücut ısısının, 37</a:t>
            </a:r>
            <a:r>
              <a:rPr b="1" lang="tr-TR" sz="2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C den 27-29</a:t>
            </a:r>
            <a:r>
              <a:rPr b="1" lang="tr-TR" sz="2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C’ye düşmesine sebep olabil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Ventriküler aritmi ve kardiak arrest gelişebil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Masif transfüzyonlarda, yenidoğanda, soğuk intoleransı olanlarda dikkat edilmelid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152280"/>
            <a:ext cx="396252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İPOTERM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151920" y="1066320"/>
            <a:ext cx="8991720" cy="523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Sınırda kalp-akciğer yetmezliği, uzun süredir derin anemisi olanlarda ve küçük bebeklerde görülebili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Tam kan yerine konsantre eritrosit kullanımı riski yarı yarıya azaltı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Riskli hastalarda infüzyon çok yavaş olarak (1ml/kg/saat) verilmelid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Transfüzyon öncesi diüretik yararlı olabili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Transfüzyon hızının azaltılması, durdurulması, hastanın pozisyonunun değiştirilmesi, diüretik ve oksijen verilmesi  ile düzeli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676520" y="304920"/>
            <a:ext cx="599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OLAŞIM YÜKLENMES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0" y="1599840"/>
            <a:ext cx="91440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Bir ünite transfüzyonla hastaya 250 mg demir veril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20-30 ünite transfüzyon almış kişilerde hemosiderozis gelişme riski vardı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Kardiak komplikasyonlara,karaciğer fibrozisine  ve siroza ilerleyen ağır bozukluklara, diabet, hipotiroidi, hipoparatiroidi gibi birçok endokrin komplikasyonlara, kemik ve iskelet sistemi komplikasyonlarına, nörolojik ve dermatolojik komplikasyonlara yol açabil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186920" y="228600"/>
            <a:ext cx="6779880" cy="13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RANSFÜZYONA BAĞL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EMOSİDEROZİ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243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NFEKSİYÖZ KOMPLİKASYONL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762480" y="412920"/>
            <a:ext cx="7331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ransfüzyonla Bulaşan Mikroorganizmal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1619280" y="1197000"/>
            <a:ext cx="5758920" cy="4856040"/>
            <a:chOff x="1619280" y="1197000"/>
            <a:chExt cx="5758920" cy="4856040"/>
          </a:xfrm>
        </p:grpSpPr>
        <p:grpSp>
          <p:nvGrpSpPr>
            <p:cNvPr id="88" name=""/>
            <p:cNvGrpSpPr/>
            <p:nvPr/>
          </p:nvGrpSpPr>
          <p:grpSpPr>
            <a:xfrm>
              <a:off x="1627920" y="1198800"/>
              <a:ext cx="5739840" cy="4852080"/>
              <a:chOff x="1627920" y="1198800"/>
              <a:chExt cx="5739840" cy="4852080"/>
            </a:xfrm>
          </p:grpSpPr>
          <p:grpSp>
            <p:nvGrpSpPr>
              <p:cNvPr id="89" name=""/>
              <p:cNvGrpSpPr/>
              <p:nvPr/>
            </p:nvGrpSpPr>
            <p:grpSpPr>
              <a:xfrm>
                <a:off x="1627920" y="1198800"/>
                <a:ext cx="2710080" cy="274320"/>
                <a:chOff x="1627920" y="1198800"/>
                <a:chExt cx="2710080" cy="274320"/>
              </a:xfrm>
            </p:grpSpPr>
            <p:sp>
              <p:nvSpPr>
                <p:cNvPr id="90" name=""/>
                <p:cNvSpPr/>
                <p:nvPr/>
              </p:nvSpPr>
              <p:spPr>
                <a:xfrm>
                  <a:off x="1711800" y="1198800"/>
                  <a:ext cx="2541960" cy="274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00"/>
                      </a:solidFill>
                      <a:latin typeface="Times New Roman"/>
                      <a:ea typeface="Times New Roman"/>
                    </a:rPr>
                    <a:t>VİRÜSLER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1627920" y="1198800"/>
                  <a:ext cx="2710080" cy="274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2" name=""/>
              <p:cNvGrpSpPr/>
              <p:nvPr/>
            </p:nvGrpSpPr>
            <p:grpSpPr>
              <a:xfrm>
                <a:off x="4338360" y="1198800"/>
                <a:ext cx="3029400" cy="274320"/>
                <a:chOff x="4338360" y="1198800"/>
                <a:chExt cx="3029400" cy="274320"/>
              </a:xfrm>
            </p:grpSpPr>
            <p:sp>
              <p:nvSpPr>
                <p:cNvPr id="93" name=""/>
                <p:cNvSpPr/>
                <p:nvPr/>
              </p:nvSpPr>
              <p:spPr>
                <a:xfrm>
                  <a:off x="4422600" y="1198800"/>
                  <a:ext cx="2860200" cy="274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00"/>
                      </a:solidFill>
                      <a:latin typeface="Times New Roman"/>
                      <a:ea typeface="Times New Roman"/>
                    </a:rPr>
                    <a:t>BAKTERİLER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4338360" y="1198800"/>
                  <a:ext cx="3029400" cy="274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5" name=""/>
              <p:cNvGrpSpPr/>
              <p:nvPr/>
            </p:nvGrpSpPr>
            <p:grpSpPr>
              <a:xfrm>
                <a:off x="1627920" y="1473120"/>
                <a:ext cx="2710080" cy="274320"/>
                <a:chOff x="1627920" y="1473120"/>
                <a:chExt cx="2710080" cy="274320"/>
              </a:xfrm>
            </p:grpSpPr>
            <p:sp>
              <p:nvSpPr>
                <p:cNvPr id="96" name=""/>
                <p:cNvSpPr/>
                <p:nvPr/>
              </p:nvSpPr>
              <p:spPr>
                <a:xfrm>
                  <a:off x="1711800" y="1473120"/>
                  <a:ext cx="2541960" cy="274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  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HAV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>
                  <a:off x="1627920" y="1473120"/>
                  <a:ext cx="2710080" cy="274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8" name=""/>
              <p:cNvGrpSpPr/>
              <p:nvPr/>
            </p:nvGrpSpPr>
            <p:grpSpPr>
              <a:xfrm>
                <a:off x="4338360" y="1473120"/>
                <a:ext cx="3029400" cy="274320"/>
                <a:chOff x="4338360" y="1473120"/>
                <a:chExt cx="3029400" cy="27432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4422600" y="1473120"/>
                  <a:ext cx="2860200" cy="274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tr-TR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  </a:t>
                  </a:r>
                  <a:r>
                    <a:rPr b="0" lang="tr-TR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Treponema pallidum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4338360" y="1473120"/>
                  <a:ext cx="3029400" cy="274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1" name=""/>
              <p:cNvGrpSpPr/>
              <p:nvPr/>
            </p:nvGrpSpPr>
            <p:grpSpPr>
              <a:xfrm>
                <a:off x="1627920" y="1747440"/>
                <a:ext cx="2710080" cy="274320"/>
                <a:chOff x="1627920" y="1747440"/>
                <a:chExt cx="2710080" cy="274320"/>
              </a:xfrm>
            </p:grpSpPr>
            <p:sp>
              <p:nvSpPr>
                <p:cNvPr id="102" name=""/>
                <p:cNvSpPr/>
                <p:nvPr/>
              </p:nvSpPr>
              <p:spPr>
                <a:xfrm>
                  <a:off x="1711800" y="1747440"/>
                  <a:ext cx="2541960" cy="274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  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HBV-HDV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1627920" y="1747440"/>
                  <a:ext cx="2710080" cy="274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4" name=""/>
              <p:cNvGrpSpPr/>
              <p:nvPr/>
            </p:nvGrpSpPr>
            <p:grpSpPr>
              <a:xfrm>
                <a:off x="4338360" y="1747440"/>
                <a:ext cx="3029400" cy="274320"/>
                <a:chOff x="4338360" y="1747440"/>
                <a:chExt cx="3029400" cy="274320"/>
              </a:xfrm>
            </p:grpSpPr>
            <p:sp>
              <p:nvSpPr>
                <p:cNvPr id="105" name=""/>
                <p:cNvSpPr/>
                <p:nvPr/>
              </p:nvSpPr>
              <p:spPr>
                <a:xfrm>
                  <a:off x="4422600" y="1747440"/>
                  <a:ext cx="2860200" cy="274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tr-TR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  </a:t>
                  </a:r>
                  <a:r>
                    <a:rPr b="0" lang="tr-TR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Borrelia türleri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4338360" y="1747440"/>
                  <a:ext cx="3029400" cy="274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7" name=""/>
              <p:cNvGrpSpPr/>
              <p:nvPr/>
            </p:nvGrpSpPr>
            <p:grpSpPr>
              <a:xfrm>
                <a:off x="1627920" y="2021760"/>
                <a:ext cx="2710080" cy="274320"/>
                <a:chOff x="1627920" y="2021760"/>
                <a:chExt cx="2710080" cy="274320"/>
              </a:xfrm>
            </p:grpSpPr>
            <p:sp>
              <p:nvSpPr>
                <p:cNvPr id="108" name=""/>
                <p:cNvSpPr/>
                <p:nvPr/>
              </p:nvSpPr>
              <p:spPr>
                <a:xfrm>
                  <a:off x="1711800" y="2021760"/>
                  <a:ext cx="2541960" cy="274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  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HCV  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1627920" y="2021760"/>
                  <a:ext cx="2710080" cy="274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0" name=""/>
              <p:cNvGrpSpPr/>
              <p:nvPr/>
            </p:nvGrpSpPr>
            <p:grpSpPr>
              <a:xfrm>
                <a:off x="4338360" y="2021760"/>
                <a:ext cx="3029400" cy="274320"/>
                <a:chOff x="4338360" y="2021760"/>
                <a:chExt cx="3029400" cy="274320"/>
              </a:xfrm>
            </p:grpSpPr>
            <p:sp>
              <p:nvSpPr>
                <p:cNvPr id="111" name=""/>
                <p:cNvSpPr/>
                <p:nvPr/>
              </p:nvSpPr>
              <p:spPr>
                <a:xfrm>
                  <a:off x="4422600" y="2021760"/>
                  <a:ext cx="2860200" cy="274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tr-TR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  </a:t>
                  </a:r>
                  <a:r>
                    <a:rPr b="0" lang="tr-TR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Brucella melitensis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4338360" y="2021760"/>
                  <a:ext cx="3029400" cy="274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3" name=""/>
              <p:cNvGrpSpPr/>
              <p:nvPr/>
            </p:nvGrpSpPr>
            <p:grpSpPr>
              <a:xfrm>
                <a:off x="1627920" y="2296440"/>
                <a:ext cx="2710080" cy="348120"/>
                <a:chOff x="1627920" y="2296440"/>
                <a:chExt cx="2710080" cy="34812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1711800" y="2296440"/>
                  <a:ext cx="2541960" cy="348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  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HGV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627920" y="2296440"/>
                  <a:ext cx="2710080" cy="348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4338360" y="2296440"/>
                <a:ext cx="3029400" cy="348120"/>
                <a:chOff x="4338360" y="2296440"/>
                <a:chExt cx="3029400" cy="34812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4422600" y="2296440"/>
                  <a:ext cx="2860200" cy="348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tr-TR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  </a:t>
                  </a:r>
                  <a:r>
                    <a:rPr b="0" lang="tr-TR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Yersinia enterocolitic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4338360" y="2296440"/>
                  <a:ext cx="3029400" cy="348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" name=""/>
              <p:cNvGrpSpPr/>
              <p:nvPr/>
            </p:nvGrpSpPr>
            <p:grpSpPr>
              <a:xfrm>
                <a:off x="1627920" y="2644560"/>
                <a:ext cx="2710080" cy="347760"/>
                <a:chOff x="1627920" y="2644560"/>
                <a:chExt cx="2710080" cy="347760"/>
              </a:xfrm>
            </p:grpSpPr>
            <p:sp>
              <p:nvSpPr>
                <p:cNvPr id="120" name=""/>
                <p:cNvSpPr/>
                <p:nvPr/>
              </p:nvSpPr>
              <p:spPr>
                <a:xfrm>
                  <a:off x="1711800" y="2644560"/>
                  <a:ext cx="2541960" cy="34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  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HEV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627920" y="2644560"/>
                  <a:ext cx="2710080" cy="347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2" name=""/>
              <p:cNvGrpSpPr/>
              <p:nvPr/>
            </p:nvGrpSpPr>
            <p:grpSpPr>
              <a:xfrm>
                <a:off x="4338360" y="2644560"/>
                <a:ext cx="3029400" cy="347760"/>
                <a:chOff x="4338360" y="2644560"/>
                <a:chExt cx="3029400" cy="347760"/>
              </a:xfrm>
            </p:grpSpPr>
            <p:sp>
              <p:nvSpPr>
                <p:cNvPr id="123" name=""/>
                <p:cNvSpPr/>
                <p:nvPr/>
              </p:nvSpPr>
              <p:spPr>
                <a:xfrm>
                  <a:off x="4422600" y="2644560"/>
                  <a:ext cx="2860200" cy="34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tr-TR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  </a:t>
                  </a:r>
                  <a:r>
                    <a:rPr b="0" lang="tr-TR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taphylococcus türleri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4338360" y="2644560"/>
                  <a:ext cx="3029400" cy="347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5" name=""/>
              <p:cNvGrpSpPr/>
              <p:nvPr/>
            </p:nvGrpSpPr>
            <p:grpSpPr>
              <a:xfrm>
                <a:off x="1627920" y="2992680"/>
                <a:ext cx="2710080" cy="274320"/>
                <a:chOff x="1627920" y="2992680"/>
                <a:chExt cx="2710080" cy="274320"/>
              </a:xfrm>
            </p:grpSpPr>
            <p:sp>
              <p:nvSpPr>
                <p:cNvPr id="126" name=""/>
                <p:cNvSpPr/>
                <p:nvPr/>
              </p:nvSpPr>
              <p:spPr>
                <a:xfrm>
                  <a:off x="1711800" y="2992680"/>
                  <a:ext cx="2541960" cy="274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  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HTLV-1/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1627920" y="2992680"/>
                  <a:ext cx="2710080" cy="274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8" name=""/>
              <p:cNvGrpSpPr/>
              <p:nvPr/>
            </p:nvGrpSpPr>
            <p:grpSpPr>
              <a:xfrm>
                <a:off x="4338360" y="2992680"/>
                <a:ext cx="3029400" cy="274320"/>
                <a:chOff x="4338360" y="2992680"/>
                <a:chExt cx="3029400" cy="274320"/>
              </a:xfrm>
            </p:grpSpPr>
            <p:sp>
              <p:nvSpPr>
                <p:cNvPr id="129" name=""/>
                <p:cNvSpPr/>
                <p:nvPr/>
              </p:nvSpPr>
              <p:spPr>
                <a:xfrm>
                  <a:off x="4422600" y="2992680"/>
                  <a:ext cx="2860200" cy="274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tr-TR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  </a:t>
                  </a:r>
                  <a:r>
                    <a:rPr b="0" lang="tr-TR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seudomonas türleri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4338360" y="2992680"/>
                  <a:ext cx="3029400" cy="274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1" name=""/>
              <p:cNvGrpSpPr/>
              <p:nvPr/>
            </p:nvGrpSpPr>
            <p:grpSpPr>
              <a:xfrm>
                <a:off x="1627920" y="3267000"/>
                <a:ext cx="2710080" cy="274320"/>
                <a:chOff x="1627920" y="3267000"/>
                <a:chExt cx="2710080" cy="274320"/>
              </a:xfrm>
            </p:grpSpPr>
            <p:sp>
              <p:nvSpPr>
                <p:cNvPr id="132" name=""/>
                <p:cNvSpPr/>
                <p:nvPr/>
              </p:nvSpPr>
              <p:spPr>
                <a:xfrm>
                  <a:off x="1711800" y="3267000"/>
                  <a:ext cx="2541960" cy="274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  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HIV-1/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627920" y="3267000"/>
                  <a:ext cx="2710080" cy="274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4" name=""/>
              <p:cNvGrpSpPr/>
              <p:nvPr/>
            </p:nvGrpSpPr>
            <p:grpSpPr>
              <a:xfrm>
                <a:off x="4338360" y="3267000"/>
                <a:ext cx="3029400" cy="274320"/>
                <a:chOff x="4338360" y="3267000"/>
                <a:chExt cx="3029400" cy="27432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4422600" y="3267000"/>
                  <a:ext cx="2860200" cy="274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tr-TR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  </a:t>
                  </a:r>
                  <a:r>
                    <a:rPr b="0" lang="tr-TR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erratia türleri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4338360" y="3267000"/>
                  <a:ext cx="3029400" cy="274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7" name=""/>
              <p:cNvGrpSpPr/>
              <p:nvPr/>
            </p:nvGrpSpPr>
            <p:grpSpPr>
              <a:xfrm>
                <a:off x="1627920" y="3541320"/>
                <a:ext cx="2710080" cy="274320"/>
                <a:chOff x="1627920" y="3541320"/>
                <a:chExt cx="2710080" cy="274320"/>
              </a:xfrm>
            </p:grpSpPr>
            <p:sp>
              <p:nvSpPr>
                <p:cNvPr id="138" name=""/>
                <p:cNvSpPr/>
                <p:nvPr/>
              </p:nvSpPr>
              <p:spPr>
                <a:xfrm>
                  <a:off x="1711800" y="3541320"/>
                  <a:ext cx="2541960" cy="274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  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MV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627920" y="3541320"/>
                  <a:ext cx="2710080" cy="274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" name=""/>
              <p:cNvGrpSpPr/>
              <p:nvPr/>
            </p:nvGrpSpPr>
            <p:grpSpPr>
              <a:xfrm>
                <a:off x="4338360" y="3541320"/>
                <a:ext cx="3029400" cy="274320"/>
                <a:chOff x="4338360" y="3541320"/>
                <a:chExt cx="3029400" cy="27432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4422600" y="3541320"/>
                  <a:ext cx="2860200" cy="274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tr-TR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  </a:t>
                  </a:r>
                  <a:r>
                    <a:rPr b="0" lang="tr-TR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almonella türleri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338360" y="3541320"/>
                  <a:ext cx="3029400" cy="274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3" name=""/>
              <p:cNvGrpSpPr/>
              <p:nvPr/>
            </p:nvGrpSpPr>
            <p:grpSpPr>
              <a:xfrm>
                <a:off x="1627920" y="3816000"/>
                <a:ext cx="2710080" cy="348120"/>
                <a:chOff x="1627920" y="3816000"/>
                <a:chExt cx="2710080" cy="348120"/>
              </a:xfrm>
            </p:grpSpPr>
            <p:sp>
              <p:nvSpPr>
                <p:cNvPr id="144" name=""/>
                <p:cNvSpPr/>
                <p:nvPr/>
              </p:nvSpPr>
              <p:spPr>
                <a:xfrm>
                  <a:off x="1711800" y="3816000"/>
                  <a:ext cx="2541960" cy="348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  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EBV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1627920" y="3816000"/>
                  <a:ext cx="2710080" cy="348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6" name=""/>
              <p:cNvGrpSpPr/>
              <p:nvPr/>
            </p:nvGrpSpPr>
            <p:grpSpPr>
              <a:xfrm>
                <a:off x="4338360" y="3816000"/>
                <a:ext cx="3029400" cy="348120"/>
                <a:chOff x="4338360" y="3816000"/>
                <a:chExt cx="3029400" cy="348120"/>
              </a:xfrm>
            </p:grpSpPr>
            <p:sp>
              <p:nvSpPr>
                <p:cNvPr id="147" name=""/>
                <p:cNvSpPr/>
                <p:nvPr/>
              </p:nvSpPr>
              <p:spPr>
                <a:xfrm>
                  <a:off x="4422600" y="3816000"/>
                  <a:ext cx="2860200" cy="348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tr-TR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  </a:t>
                  </a:r>
                  <a:r>
                    <a:rPr b="0" lang="tr-TR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ampylobacter türleri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4338360" y="3816000"/>
                  <a:ext cx="3029400" cy="348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9" name=""/>
              <p:cNvGrpSpPr/>
              <p:nvPr/>
            </p:nvGrpSpPr>
            <p:grpSpPr>
              <a:xfrm>
                <a:off x="1627920" y="4164120"/>
                <a:ext cx="2710080" cy="280440"/>
                <a:chOff x="1627920" y="4164120"/>
                <a:chExt cx="2710080" cy="280440"/>
              </a:xfrm>
            </p:grpSpPr>
            <p:sp>
              <p:nvSpPr>
                <p:cNvPr id="150" name=""/>
                <p:cNvSpPr/>
                <p:nvPr/>
              </p:nvSpPr>
              <p:spPr>
                <a:xfrm>
                  <a:off x="1711800" y="4164120"/>
                  <a:ext cx="2541960" cy="280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tr-TR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  </a:t>
                  </a:r>
                  <a:r>
                    <a:rPr b="0" lang="tr-TR" sz="1600" spc="-1" strike="noStrike">
                      <a:solidFill>
                        <a:srgbClr val="000000"/>
                      </a:solidFill>
                      <a:latin typeface="Times New Roman"/>
                    </a:rPr>
                    <a:t>Parvovirüs B19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1627920" y="4164120"/>
                  <a:ext cx="2710080" cy="280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2" name=""/>
              <p:cNvGrpSpPr/>
              <p:nvPr/>
            </p:nvGrpSpPr>
            <p:grpSpPr>
              <a:xfrm>
                <a:off x="4338360" y="4164120"/>
                <a:ext cx="3029400" cy="280440"/>
                <a:chOff x="4338360" y="4164120"/>
                <a:chExt cx="3029400" cy="280440"/>
              </a:xfrm>
            </p:grpSpPr>
            <p:sp>
              <p:nvSpPr>
                <p:cNvPr id="153" name=""/>
                <p:cNvSpPr/>
                <p:nvPr/>
              </p:nvSpPr>
              <p:spPr>
                <a:xfrm>
                  <a:off x="4422600" y="4164120"/>
                  <a:ext cx="2860200" cy="280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tr-TR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  </a:t>
                  </a:r>
                  <a:r>
                    <a:rPr b="0" lang="tr-TR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treptocoocus türleri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4338360" y="4164120"/>
                  <a:ext cx="3029400" cy="280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5" name=""/>
              <p:cNvGrpSpPr/>
              <p:nvPr/>
            </p:nvGrpSpPr>
            <p:grpSpPr>
              <a:xfrm>
                <a:off x="1627920" y="4444920"/>
                <a:ext cx="2710080" cy="280440"/>
                <a:chOff x="1627920" y="4444920"/>
                <a:chExt cx="2710080" cy="280440"/>
              </a:xfrm>
            </p:grpSpPr>
            <p:sp>
              <p:nvSpPr>
                <p:cNvPr id="156" name=""/>
                <p:cNvSpPr/>
                <p:nvPr/>
              </p:nvSpPr>
              <p:spPr>
                <a:xfrm>
                  <a:off x="1711800" y="4444920"/>
                  <a:ext cx="2541960" cy="280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00"/>
                      </a:solidFill>
                      <a:latin typeface="Times New Roman"/>
                      <a:ea typeface="Times New Roman"/>
                    </a:rPr>
                    <a:t>PARAZİTLER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1627920" y="4444920"/>
                  <a:ext cx="2710080" cy="280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8" name=""/>
              <p:cNvGrpSpPr/>
              <p:nvPr/>
            </p:nvGrpSpPr>
            <p:grpSpPr>
              <a:xfrm>
                <a:off x="4338360" y="4444920"/>
                <a:ext cx="3029400" cy="280440"/>
                <a:chOff x="4338360" y="4444920"/>
                <a:chExt cx="3029400" cy="280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4422600" y="4444920"/>
                  <a:ext cx="2860200" cy="280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 </a:t>
                  </a:r>
                  <a:r>
                    <a:rPr b="1" lang="en-US" sz="1600" spc="-1" strike="noStrike">
                      <a:solidFill>
                        <a:srgbClr val="ff0000"/>
                      </a:solidFill>
                      <a:latin typeface="Times New Roman"/>
                    </a:rPr>
                    <a:t>RİKETSİYALAR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4338360" y="4444920"/>
                  <a:ext cx="3029400" cy="280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1" name=""/>
              <p:cNvGrpSpPr/>
              <p:nvPr/>
            </p:nvGrpSpPr>
            <p:grpSpPr>
              <a:xfrm>
                <a:off x="1627920" y="4725360"/>
                <a:ext cx="2710080" cy="348120"/>
                <a:chOff x="1627920" y="4725360"/>
                <a:chExt cx="2710080" cy="348120"/>
              </a:xfrm>
            </p:grpSpPr>
            <p:sp>
              <p:nvSpPr>
                <p:cNvPr id="162" name=""/>
                <p:cNvSpPr/>
                <p:nvPr/>
              </p:nvSpPr>
              <p:spPr>
                <a:xfrm>
                  <a:off x="1711800" y="4725360"/>
                  <a:ext cx="2541960" cy="348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tr-TR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  </a:t>
                  </a:r>
                  <a:r>
                    <a:rPr b="0" lang="tr-TR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lazmodium türleri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1627920" y="4725360"/>
                  <a:ext cx="2710080" cy="348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4" name=""/>
              <p:cNvGrpSpPr/>
              <p:nvPr/>
            </p:nvGrpSpPr>
            <p:grpSpPr>
              <a:xfrm>
                <a:off x="4338360" y="4725360"/>
                <a:ext cx="3029400" cy="348120"/>
                <a:chOff x="4338360" y="4725360"/>
                <a:chExt cx="3029400" cy="348120"/>
              </a:xfrm>
            </p:grpSpPr>
            <p:sp>
              <p:nvSpPr>
                <p:cNvPr id="165" name=""/>
                <p:cNvSpPr/>
                <p:nvPr/>
              </p:nvSpPr>
              <p:spPr>
                <a:xfrm>
                  <a:off x="4422600" y="4725360"/>
                  <a:ext cx="2860200" cy="348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tr-TR" sz="1600" spc="-1" strike="noStrike">
                      <a:solidFill>
                        <a:srgbClr val="000000"/>
                      </a:solidFill>
                      <a:latin typeface="Arial"/>
                    </a:rPr>
                    <a:t>   </a:t>
                  </a:r>
                  <a:r>
                    <a:rPr b="0" lang="tr-TR" sz="1600" spc="-1" strike="noStrike">
                      <a:solidFill>
                        <a:srgbClr val="000000"/>
                      </a:solidFill>
                      <a:latin typeface="Times New Roman"/>
                    </a:rPr>
                    <a:t>Rickettsia ricketsii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4338360" y="4725360"/>
                  <a:ext cx="3029400" cy="348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7" name=""/>
              <p:cNvGrpSpPr/>
              <p:nvPr/>
            </p:nvGrpSpPr>
            <p:grpSpPr>
              <a:xfrm>
                <a:off x="1627920" y="5073840"/>
                <a:ext cx="2710080" cy="348120"/>
                <a:chOff x="1627920" y="5073840"/>
                <a:chExt cx="2710080" cy="34812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1711800" y="5073840"/>
                  <a:ext cx="2541960" cy="348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tr-TR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  </a:t>
                  </a:r>
                  <a:r>
                    <a:rPr b="0" lang="tr-TR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Toxoplasma gondii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1627920" y="5073840"/>
                  <a:ext cx="2710080" cy="348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0" name=""/>
              <p:cNvGrpSpPr/>
              <p:nvPr/>
            </p:nvGrpSpPr>
            <p:grpSpPr>
              <a:xfrm>
                <a:off x="4338360" y="5073840"/>
                <a:ext cx="3029400" cy="348120"/>
                <a:chOff x="4338360" y="5073840"/>
                <a:chExt cx="3029400" cy="348120"/>
              </a:xfrm>
            </p:grpSpPr>
            <p:sp>
              <p:nvSpPr>
                <p:cNvPr id="171" name=""/>
                <p:cNvSpPr/>
                <p:nvPr/>
              </p:nvSpPr>
              <p:spPr>
                <a:xfrm>
                  <a:off x="4422600" y="5073840"/>
                  <a:ext cx="2860200" cy="348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tr-TR" sz="1600" spc="-1" strike="noStrike">
                      <a:solidFill>
                        <a:srgbClr val="000000"/>
                      </a:solidFill>
                      <a:latin typeface="Arial"/>
                    </a:rPr>
                    <a:t>   </a:t>
                  </a:r>
                  <a:r>
                    <a:rPr b="0" lang="tr-TR" sz="1600" spc="-1" strike="noStrike">
                      <a:solidFill>
                        <a:srgbClr val="000000"/>
                      </a:solidFill>
                      <a:latin typeface="Times New Roman"/>
                    </a:rPr>
                    <a:t>Coxiella burnetti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4338360" y="5073840"/>
                  <a:ext cx="3029400" cy="348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3" name=""/>
              <p:cNvGrpSpPr/>
              <p:nvPr/>
            </p:nvGrpSpPr>
            <p:grpSpPr>
              <a:xfrm>
                <a:off x="1627920" y="5421960"/>
                <a:ext cx="2710080" cy="347760"/>
                <a:chOff x="1627920" y="5421960"/>
                <a:chExt cx="2710080" cy="347760"/>
              </a:xfrm>
            </p:grpSpPr>
            <p:sp>
              <p:nvSpPr>
                <p:cNvPr id="174" name=""/>
                <p:cNvSpPr/>
                <p:nvPr/>
              </p:nvSpPr>
              <p:spPr>
                <a:xfrm>
                  <a:off x="1711800" y="5421960"/>
                  <a:ext cx="2541960" cy="34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tr-TR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  </a:t>
                  </a:r>
                  <a:r>
                    <a:rPr b="0" lang="tr-TR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Trypanasoma cruzi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1627920" y="5421960"/>
                  <a:ext cx="2710080" cy="347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6" name=""/>
              <p:cNvGrpSpPr/>
              <p:nvPr/>
            </p:nvGrpSpPr>
            <p:grpSpPr>
              <a:xfrm>
                <a:off x="4338360" y="5421960"/>
                <a:ext cx="3029400" cy="347760"/>
                <a:chOff x="4338360" y="5421960"/>
                <a:chExt cx="3029400" cy="347760"/>
              </a:xfrm>
            </p:grpSpPr>
            <p:sp>
              <p:nvSpPr>
                <p:cNvPr id="177" name=""/>
                <p:cNvSpPr/>
                <p:nvPr/>
              </p:nvSpPr>
              <p:spPr>
                <a:xfrm>
                  <a:off x="4422600" y="5421960"/>
                  <a:ext cx="2860200" cy="34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  </a:t>
                  </a:r>
                  <a:r>
                    <a:rPr b="1" lang="en-US" sz="1600" spc="-1" strike="noStrike">
                      <a:solidFill>
                        <a:srgbClr val="ff0000"/>
                      </a:solidFill>
                      <a:latin typeface="Times New Roman"/>
                      <a:ea typeface="Times New Roman"/>
                    </a:rPr>
                    <a:t>PRİONLAR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4338360" y="5421960"/>
                  <a:ext cx="3029400" cy="347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9" name=""/>
              <p:cNvGrpSpPr/>
              <p:nvPr/>
            </p:nvGrpSpPr>
            <p:grpSpPr>
              <a:xfrm>
                <a:off x="1627920" y="5770080"/>
                <a:ext cx="2710080" cy="280800"/>
                <a:chOff x="1627920" y="5770080"/>
                <a:chExt cx="2710080" cy="280800"/>
              </a:xfrm>
            </p:grpSpPr>
            <p:sp>
              <p:nvSpPr>
                <p:cNvPr id="180" name=""/>
                <p:cNvSpPr/>
                <p:nvPr/>
              </p:nvSpPr>
              <p:spPr>
                <a:xfrm>
                  <a:off x="1711800" y="5770080"/>
                  <a:ext cx="2541960" cy="28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tr-TR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  </a:t>
                  </a:r>
                  <a:r>
                    <a:rPr b="0" lang="tr-TR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Babesia türleri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1627920" y="5770080"/>
                  <a:ext cx="2710080" cy="280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2" name=""/>
              <p:cNvGrpSpPr/>
              <p:nvPr/>
            </p:nvGrpSpPr>
            <p:grpSpPr>
              <a:xfrm>
                <a:off x="4338360" y="5770080"/>
                <a:ext cx="3029400" cy="280800"/>
                <a:chOff x="4338360" y="5770080"/>
                <a:chExt cx="3029400" cy="28080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4422600" y="5770080"/>
                  <a:ext cx="2860200" cy="28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4338360" y="5770080"/>
                  <a:ext cx="3029400" cy="280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85" name=""/>
            <p:cNvSpPr/>
            <p:nvPr/>
          </p:nvSpPr>
          <p:spPr>
            <a:xfrm>
              <a:off x="1619280" y="1197000"/>
              <a:ext cx="5758920" cy="485604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000000"/>
                </a:solidFill>
                <a:latin typeface="Arial"/>
              </a:rPr>
              <a:t>Bakteriyel Kontaminasy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28600" y="1828800"/>
            <a:ext cx="8686800" cy="35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 u="sng">
                <a:solidFill>
                  <a:srgbClr val="000000"/>
                </a:solidFill>
                <a:uFillTx/>
                <a:latin typeface="Arial"/>
              </a:rPr>
              <a:t>Görülme Sıklığı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: %0,2-0,5’t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 u="sng">
                <a:solidFill>
                  <a:srgbClr val="000000"/>
                </a:solidFill>
                <a:uFillTx/>
                <a:latin typeface="Arial"/>
              </a:rPr>
              <a:t>Ciddi 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ve fatal seyirli reaksiyonlara neden olabil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Bakteriyel kontaminasyon riski, komponentin </a:t>
            </a:r>
            <a:r>
              <a:rPr b="1" lang="tr-TR" sz="2800" spc="-1" strike="noStrike" u="sng">
                <a:solidFill>
                  <a:srgbClr val="000000"/>
                </a:solidFill>
                <a:uFillTx/>
                <a:latin typeface="Arial"/>
              </a:rPr>
              <a:t>saklama ortamıyla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 yakından ilişkilidir, oda ısısında saklanan komponentlerde bakteriyel kontaminasyon riski art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000000"/>
                </a:solidFill>
                <a:latin typeface="Arial"/>
              </a:rPr>
              <a:t>Bakteriyel Kontaminasy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" y="1828800"/>
            <a:ext cx="8686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380880" y="1295280"/>
          <a:ext cx="8382240" cy="5162760"/>
        </p:xfrm>
        <a:graphic>
          <a:graphicData uri="http://schemas.openxmlformats.org/drawingml/2006/table">
            <a:tbl>
              <a:tblPr/>
              <a:tblGrid>
                <a:gridCol w="4411800"/>
                <a:gridCol w="3970440"/>
              </a:tblGrid>
              <a:tr h="5403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ağışçıda bakteriyem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astroenteritli bağışçıda asemptomatik bakteriyem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r-T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ersinia enterocolitica, Campylobacter jejun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ÜSYE’de asemptomatik inkübasyon dönem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r-T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reptococcus pyogen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yme hastalığı erken dönem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r-T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orrelia burgdorfer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ronik enfeksiyonl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steomyeli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r-T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lmonella choleraesu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fili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r-T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reponema pallidu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opuk ülserasyonlar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r-T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erratia liquefacie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ntal girişimler veya küçük cerrahi operasyonl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r-T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aphylococcus aureu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000000"/>
                </a:solidFill>
                <a:latin typeface="Arial"/>
              </a:rPr>
              <a:t>Bakteriyel Kontaminasy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28600" y="1828800"/>
            <a:ext cx="8686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380880" y="1066680"/>
          <a:ext cx="8458200" cy="5246640"/>
        </p:xfrm>
        <a:graphic>
          <a:graphicData uri="http://schemas.openxmlformats.org/drawingml/2006/table">
            <a:tbl>
              <a:tblPr/>
              <a:tblGrid>
                <a:gridCol w="4451400"/>
                <a:gridCol w="4006800"/>
              </a:tblGrid>
              <a:tr h="5310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anın alınmas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3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etersiz deri dezenfeksiyon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r-T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aphylococcus epidermidis, S. aureus, Bacillus suşları, difteroidl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lebotomi alanında enfeksiy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r-T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nterokoklar, Stafilokokl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akumlu tüplerin kontaminasyon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r-T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rratia marcesce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ferez solüsyonunun kontaminasyon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r-T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nterobacter cloaca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5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an torbalarının üretim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rbanın hazırlanma aşamasında kontaminasyon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r-T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. marcesce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5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an ürünü hazırlanmas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an ürünlerinin transfüzyon öncesi hazırlanması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r-T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seudomonas cepac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sıtma banyolarında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r-T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. cepacia, P. aeruginos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UTİN UYGULAMAL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33520" y="2438280"/>
            <a:ext cx="8001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Bugün ülkemizde yasal olarak bağışçı kanlarına uygulanan zorunlu tarama testler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HBsAg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nti-HCV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nti-HIV-1/2,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VDRL-RP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285640" y="4572000"/>
            <a:ext cx="5040360" cy="155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000" spc="-1" strike="noStrike">
                <a:solidFill>
                  <a:srgbClr val="000000"/>
                </a:solidFill>
                <a:latin typeface="Arial"/>
              </a:rPr>
              <a:t>ENFEKSİYÖZ </a:t>
            </a:r>
            <a:br>
              <a:rPr sz="2000"/>
            </a:br>
            <a:r>
              <a:rPr b="1" lang="tr-TR" sz="2000" spc="-1" strike="noStrike">
                <a:solidFill>
                  <a:srgbClr val="000000"/>
                </a:solidFill>
                <a:latin typeface="Arial"/>
              </a:rPr>
              <a:t>Bakteri ve Parazit Enfeksiyonları</a:t>
            </a:r>
            <a:br>
              <a:rPr sz="2000"/>
            </a:br>
            <a:r>
              <a:rPr b="1" lang="tr-TR" sz="2000" spc="-1" strike="noStrike">
                <a:solidFill>
                  <a:srgbClr val="000000"/>
                </a:solidFill>
                <a:latin typeface="Arial"/>
              </a:rPr>
              <a:t>Virus Enfeksiyonları</a:t>
            </a:r>
            <a:br>
              <a:rPr sz="2000"/>
            </a:br>
            <a:r>
              <a:rPr b="1" lang="tr-TR" sz="2000" spc="-1" strike="noStrike">
                <a:solidFill>
                  <a:srgbClr val="000000"/>
                </a:solidFill>
                <a:latin typeface="Arial"/>
              </a:rPr>
              <a:t>Prion Hastalıklar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78920" y="189000"/>
            <a:ext cx="5612040" cy="4076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000" spc="-1" strike="noStrike">
                <a:solidFill>
                  <a:srgbClr val="000000"/>
                </a:solidFill>
                <a:latin typeface="Arial"/>
              </a:rPr>
              <a:t>İMMÜNOLOJİ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Arial"/>
              </a:rPr>
              <a:t>* Hemoliti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Arial"/>
              </a:rPr>
              <a:t>Aku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Arial"/>
              </a:rPr>
              <a:t>Gecikmiş Tip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Arial"/>
              </a:rPr>
              <a:t>* Ateş Reaksiyonları (FNHT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Arial"/>
              </a:rPr>
              <a:t>* Akut Akciğer Hasarı (TRAL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Arial"/>
              </a:rPr>
              <a:t>* Ürtiker ve Anaflak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Arial"/>
              </a:rPr>
              <a:t>* İmmünmodülasy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Arial"/>
              </a:rPr>
              <a:t>* Graft Versus Host Hastalığı (TA-GVH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Arial"/>
              </a:rPr>
              <a:t>* Transfüzyon Sonrası İzlenen Purp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6019920" y="188640"/>
            <a:ext cx="2944800" cy="410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507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tr-TR" sz="2000" spc="-1" strike="noStrike">
                <a:solidFill>
                  <a:srgbClr val="000000"/>
                </a:solidFill>
                <a:latin typeface="Arial"/>
              </a:rPr>
              <a:t>İMMÜNOLOJİK OLMAYA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7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7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Arial"/>
              </a:rPr>
              <a:t>* Hiperkale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7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Arial"/>
              </a:rPr>
              <a:t>* Sitrat Toksisite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7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Arial"/>
              </a:rPr>
              <a:t>* Hipoter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7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Arial"/>
              </a:rPr>
              <a:t>* Dolaşım Yüklenme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7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Arial"/>
              </a:rPr>
              <a:t>* Hemosideroz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7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Arial"/>
              </a:rPr>
              <a:t>* Hemoliti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3520" y="2590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ransfüzyon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=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ransplantasy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EMOLİTİK REAKSİYONL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1219320"/>
            <a:ext cx="91440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Hemoliz: Eritrositlerin parçalanmasıdı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İmmünolojik veya non-immünolojik nedenler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olabil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Non-immünolojik hemoliz nedenler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2800" spc="-1" strike="noStrike" u="sng">
                <a:solidFill>
                  <a:srgbClr val="000000"/>
                </a:solidFill>
                <a:uFillTx/>
                <a:latin typeface="Arial"/>
              </a:rPr>
              <a:t>Bakteriyel kontaminasyon</a:t>
            </a:r>
            <a:r>
              <a:rPr b="1" lang="tr-TR" sz="28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açık sistemler, cam 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şişede depolama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4-6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C üreyen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 bakteriler 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(Pseudomonas, Yersinia)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partikül, pıhtı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renk 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değişikliği uyarıcı olmal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2800" spc="-1" strike="noStrike" u="sng">
                <a:solidFill>
                  <a:srgbClr val="000000"/>
                </a:solidFill>
                <a:uFillTx/>
                <a:latin typeface="Arial"/>
              </a:rPr>
              <a:t>Mekanik hemoliz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vücut dışı dolaşım, kateterler, 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dar çaplı iğne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2800" spc="-1" strike="noStrike" u="sng">
                <a:solidFill>
                  <a:srgbClr val="000000"/>
                </a:solidFill>
                <a:uFillTx/>
                <a:latin typeface="Arial"/>
              </a:rPr>
              <a:t>Termal hemoliz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&lt; -3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C   &gt;50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2800" spc="-1" strike="noStrike" u="sng">
                <a:solidFill>
                  <a:srgbClr val="000000"/>
                </a:solidFill>
                <a:uFillTx/>
                <a:latin typeface="Arial"/>
              </a:rPr>
              <a:t>Osmotik hemoliz</a:t>
            </a:r>
            <a:r>
              <a:rPr b="1" lang="tr-TR" sz="28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hipotonik solüsyonl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İMMÜN HEMOLİTİK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AKSİYONL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066680" y="1981080"/>
            <a:ext cx="67820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Reaksiyon Şiddet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antijenin özgüllüğ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uygunsuz hücrelerin miktar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antikor titre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antikorun tipi, alt-grub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antikorun reaksiyon oluşturduğu ıs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hastanın (alıcı) primer hastalığ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55640" y="260280"/>
            <a:ext cx="766764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68492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80808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000000"/>
                </a:solidFill>
                <a:latin typeface="Arial"/>
              </a:rPr>
              <a:t>Hemolitik </a:t>
            </a:r>
            <a:r>
              <a:rPr b="1" lang="tr-TR" sz="4000" spc="-1" strike="noStrike">
                <a:solidFill>
                  <a:srgbClr val="000000"/>
                </a:solidFill>
                <a:latin typeface="Arial"/>
              </a:rPr>
              <a:t>Transfüzyon R</a:t>
            </a:r>
            <a:r>
              <a:rPr b="1" lang="en-AU" sz="4000" spc="-1" strike="noStrike">
                <a:solidFill>
                  <a:srgbClr val="000000"/>
                </a:solidFill>
                <a:latin typeface="Arial"/>
              </a:rPr>
              <a:t>eaksiyonların</a:t>
            </a:r>
            <a:r>
              <a:rPr b="1" lang="tr-TR" sz="4000" spc="-1" strike="noStrike">
                <a:solidFill>
                  <a:srgbClr val="000000"/>
                </a:solidFill>
                <a:latin typeface="Arial"/>
              </a:rPr>
              <a:t>ın</a:t>
            </a:r>
            <a:r>
              <a:rPr b="1" lang="en-A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tr-TR" sz="4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AU" sz="4000" spc="-1" strike="noStrike">
                <a:solidFill>
                  <a:srgbClr val="000000"/>
                </a:solidFill>
                <a:latin typeface="Arial"/>
              </a:rPr>
              <a:t>ıklığ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610480" cy="386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Kadınlarda (gebelikler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 nedeniyle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rkeklerden 3 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kat fazladır, a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llo-immünizasyon riski eşit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t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Yaşlılar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Cerrahi veya akut hastalıklar nedeniyle k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ısa sürede fazla miktarda transfüzyon 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alanlar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Kronik anemi nedeniyle sürekli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 transfüzyon yapılanlar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da sıktı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801216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80808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000000"/>
                </a:solidFill>
                <a:latin typeface="Arial"/>
              </a:rPr>
              <a:t>İmmün </a:t>
            </a:r>
            <a:r>
              <a:rPr b="1" lang="tr-TR" sz="4000" spc="-1" strike="noStrike">
                <a:solidFill>
                  <a:srgbClr val="000000"/>
                </a:solidFill>
                <a:latin typeface="Arial"/>
              </a:rPr>
              <a:t>Hemolitik Reaksiyonl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920000" cy="499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 u="sng">
                <a:solidFill>
                  <a:srgbClr val="000000"/>
                </a:solidFill>
                <a:uFillTx/>
                <a:latin typeface="Arial"/>
              </a:rPr>
              <a:t>Erken </a:t>
            </a:r>
            <a:r>
              <a:rPr b="1" lang="tr-TR" sz="2800" spc="-1" strike="noStrike" u="sng">
                <a:solidFill>
                  <a:srgbClr val="000000"/>
                </a:solidFill>
                <a:uFillTx/>
                <a:latin typeface="Arial"/>
              </a:rPr>
              <a:t>D</a:t>
            </a:r>
            <a:r>
              <a:rPr b="1" lang="en-AU" sz="2800" spc="-1" strike="noStrike" u="sng">
                <a:solidFill>
                  <a:srgbClr val="000000"/>
                </a:solidFill>
                <a:uFillTx/>
                <a:latin typeface="Arial"/>
              </a:rPr>
              <a:t>önem HTR</a:t>
            </a:r>
            <a:r>
              <a:rPr b="1" lang="tr-TR" sz="28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Transfüzyon sırasında veya hemen sonra (&lt;24 saat) açığa çıkan reaksiyonlar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dı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Çoğunlukla damar içi hemoliz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 görülü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 u="sng">
                <a:solidFill>
                  <a:srgbClr val="000000"/>
                </a:solidFill>
                <a:uFillTx/>
                <a:latin typeface="Arial"/>
              </a:rPr>
              <a:t>Geç </a:t>
            </a:r>
            <a:r>
              <a:rPr b="1" lang="tr-TR" sz="2800" spc="-1" strike="noStrike" u="sng">
                <a:solidFill>
                  <a:srgbClr val="000000"/>
                </a:solidFill>
                <a:uFillTx/>
                <a:latin typeface="Arial"/>
              </a:rPr>
              <a:t>D</a:t>
            </a:r>
            <a:r>
              <a:rPr b="1" lang="en-AU" sz="2800" spc="-1" strike="noStrike" u="sng">
                <a:solidFill>
                  <a:srgbClr val="000000"/>
                </a:solidFill>
                <a:uFillTx/>
                <a:latin typeface="Arial"/>
              </a:rPr>
              <a:t>önem HTR</a:t>
            </a:r>
            <a:r>
              <a:rPr b="1" lang="tr-TR" sz="28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Transfüzyondan 5-7 gün sonra açığa çıkan reaksiyonlar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dı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Çoğunlukla damar dışı hemoliz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 görülü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Nedenleri: p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rimer immünizasyon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 veya a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namnestik reaksiyon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d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7684920" cy="87624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80808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000000"/>
                </a:solidFill>
                <a:latin typeface="Arial"/>
              </a:rPr>
              <a:t>Erken </a:t>
            </a:r>
            <a:r>
              <a:rPr b="1" lang="tr-TR" sz="4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AU" sz="4000" spc="-1" strike="noStrike">
                <a:solidFill>
                  <a:srgbClr val="000000"/>
                </a:solidFill>
                <a:latin typeface="Arial"/>
              </a:rPr>
              <a:t>önem HT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240" y="1066680"/>
            <a:ext cx="8915400" cy="470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 u="sng">
                <a:solidFill>
                  <a:srgbClr val="000000"/>
                </a:solidFill>
                <a:uFillTx/>
                <a:latin typeface="Arial"/>
              </a:rPr>
              <a:t>Görülme Sıklığı: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 1:100 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 u="sng">
                <a:solidFill>
                  <a:srgbClr val="000000"/>
                </a:solidFill>
                <a:uFillTx/>
                <a:latin typeface="Arial"/>
              </a:rPr>
              <a:t>M</a:t>
            </a:r>
            <a:r>
              <a:rPr b="1" lang="en-AU" sz="2800" spc="-1" strike="noStrike" u="sng">
                <a:solidFill>
                  <a:srgbClr val="000000"/>
                </a:solidFill>
                <a:uFillTx/>
                <a:latin typeface="Arial"/>
              </a:rPr>
              <a:t>ortalite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 % 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% 92 - 98 </a:t>
            </a:r>
            <a:r>
              <a:rPr b="1" lang="en-AU" sz="2800" spc="-1" strike="noStrike" u="sng">
                <a:solidFill>
                  <a:srgbClr val="000000"/>
                </a:solidFill>
                <a:uFillTx/>
                <a:latin typeface="Arial"/>
              </a:rPr>
              <a:t>bildirilme</a:t>
            </a:r>
            <a:r>
              <a:rPr b="1" lang="tr-TR" sz="2800" spc="-1" strike="noStrike" u="sng">
                <a:solidFill>
                  <a:srgbClr val="000000"/>
                </a:solidFill>
                <a:uFillTx/>
                <a:latin typeface="Arial"/>
              </a:rPr>
              <a:t>mektedir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 u="sng">
                <a:solidFill>
                  <a:srgbClr val="000000"/>
                </a:solidFill>
                <a:uFillTx/>
                <a:latin typeface="Arial"/>
              </a:rPr>
              <a:t>Nedeni: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% 75 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kadarı 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ABO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Kell, Kidd, Duffy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 uyumsuzluğundandır, 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% 60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’ı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 önlenebilir nedenler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led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 u="sng">
                <a:solidFill>
                  <a:srgbClr val="000000"/>
                </a:solidFill>
                <a:uFillTx/>
                <a:latin typeface="Arial"/>
              </a:rPr>
              <a:t>Belirti ve bulgular: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 ateş, titreme, göğüste, sırtta ve infüzyon yerinde ağrı, hipotansiyon, bulantı, yüzde kızarma, nefes darlığı, hemoglobinüri, şok, yaygın kanama, oligüri, anüri, laboratuvarda damar içi hemoliz bulgular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ELL</cp:lastModifiedBy>
  <dcterms:modified xsi:type="dcterms:W3CDTF">2006-10-17T15:43:21Z</dcterms:modified>
  <cp:revision>3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