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FB9-0EBB-49B3-B5B1-D1498B5B990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120-7EF4-44F4-BA0C-5785FA77310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1A43-6F47-49E0-AC18-EED90D2A1A6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F6F9-0299-4525-B24E-C50D8CC0C27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171-C59D-4E97-A3EF-4523343B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528-57DA-473E-9395-4DB3F8AC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946-01E9-4E86-8941-FD1622F2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9B9-6328-41AD-A0F3-495238BB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AD5-63B2-4FAC-967D-7EECEEC8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B75-E839-4E58-AE8E-A0483C22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8F1-895A-497C-AC65-5108312F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EB3-F901-4878-9E98-1A14A630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46B-F0B5-438D-A1AA-28B0171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83F-F1C2-4107-9768-134364E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419-14DE-489F-9E32-73A32E73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0E6-6E36-4DE8-A68C-309A910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A8E-CC30-4A93-836E-A09AE98EB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ansfüzyon Pratiğ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ONENT TEDAVİSİNİN AVANTAJ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280" y="2057040"/>
            <a:ext cx="8748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davinin başarısı a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n etki aza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 ünite kandan birkaç hastaya yetecek ürün elde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ler daha uzun süre saklan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OMPONENTLERİNİN SAKLANM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Ortamın ısısına, nemine ve kan torbalarının direkt ışık ile temas etmemesine dikkat edilmelid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er kan komponentinin özel saklama ortamı sağlanmalıdı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NFÜZYON ÖNCESİ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ziksel travmalardan kaçın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zun mesafeler için uygun transport ortamı sağ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tala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ritrositlerin buzla teması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eşenlerin direkt sıcağa maruz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ırak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NFÜZYON ÖNCESİ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in doğruluğundan emin olu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stenen komponent = Gelen komponent mi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tiket bilgileri tam ve doğru mud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 yavaş hareketlerle çalka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NFÜZYON ÖNCESİ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mar yolunun açık ve çalışır olduğu kontrol edilmelidir, ven çapı transfüzyon için uygun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niş çaplı (18-19 gauge) iğne ya da kateterler kullanılmalı,  akım probleminde komponent yalnızca serum fizyolojikle dilüe edil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ynı infüzyon hattı farklı amaçlarla kullanıl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NFÜZYON ÖNCESİ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ynı infüzyon hattı farklı amaçlarla kullanıl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 içine ilaç ya da farklı bir sıvı eklenme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, farklı sıvılara saplama olarak verilme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 bilgilendirilmeli ve onamı alı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UN TAKİBİ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tak başında hasta ve ürün tanımlamaları tekrar gözden geçirilmelidir (hasta adı, ürün, kan grupları, testler, son kullanma tarihi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rcihan yatak başı cross-match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un İlk 5-10 dk. yavaş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langıçta ve belirli aralıklarla vital bulgular takip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run yoksa transfüzyon hızı artır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UN TAKİBİ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0 ünitede bir pıhtılaşma fonksiyonları takip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sif transfüzyonda kalsiyum veril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zun süre beklemiş banka kanında potasyum ve asit pH sitrat toksisitesini arttır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ensip olarak her bir litre (4 ünite) kan için 10 ml kalsiyum glukonat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UN TAKİBİ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sırasında ortaya çıkan belirti ve bulgular aksi kanıtlanıncaya kadar yaşamı tehdit eden akut transfüzyon reaksiyonu olarak kabul edilmeli, gerekli ise transfüzyon durdurul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bitiminde transfüzyon kaydı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rhangi bir nedenle kullanılmayan komponent en kısa sürede (maksimum 30 dakika) kan merkezine geri ilet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ZMA KOMPONENTLERİNİN İNFÜZY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oss-match yapmaya gerek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O kan grubu uygunluğu önemli (büyük hacimlerde ABO izohemaglütininleri hemolize neden olacağından) ve yeter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nmuş ürünler 30-37°C’de, özel cihazlarla çözdürülür ve 24 saat içinde kullan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özünmüş ürün tekrar donduru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88390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ın epilepsi tedavisinde kullanım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oma ve Yunan kaynakları, 160-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şlı ve güçsüzlere gençlik ve sağlık v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pa VIII. Innocent’a transfüzyon, 1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yvanlarda ilk transfüzyon denemel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r Lower 16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TRANSFÜZYONU TARİHÇESİ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NFÜZYON H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 ünite kan birkaç dakika içinde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ve eritrosit transfüzyonu için ortalama süre 1-3 saat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kteri üreme riski nedeniyle süre 4 saati geçme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p yetmezliği olan çocuk hastalarda 1-3 ml/dk hızla infüzyon yap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çık sistemdeki kan komponentinin maksimum raf ömrü +4°C’de 24 saat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59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ONENTLERİN ISITILMAS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 veya 2 ünite kan, normal sürede ısıtılmadan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ın ısıtılma endikas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Masif transfüz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Exchange transfüz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İnfüzyon bölgesinde venöz spazma bağlı ağr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aroksismal nokturnal hemoglobinü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Ciddi soğuk aglutinin hastalı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leri özel cihazlarla ısıtılmalı ve ısı 42°C’yi geçme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59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ONENTLERİN ISITILMAS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orifer üzeri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nayan sul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ücut yüzeyi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ikrodalga fırınlarda v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leri Isıtıl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ONENTLERİN FİLTRASY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9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70-250 mikron filtreli kan verme setleri kullanılmalı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 üniteden fazla ve banka kanı transfüzyonlarında 20-40 mikronluk mikroagregat filtreleri kullanılmalı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MV negatif gebeler, kemik iliği nakli planlanan hastalar, prematüreler, immün süpresyondakilere özel lökosit filtreleri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kteri kontaminasyonunu önlemek amacıyla maksimum dört saat sonra filtreler değiştirilmeli ya da her iki ünite transfüzyondan sonra yeni set kullanılmalı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OMPONETLERİNİ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ŞINLANMAS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ücre içeren kan bileşenlerini lenfositlerden  arındırma yöntem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ltraviyole yetersizdir, Gamma irradyasyon kullan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500-3200 rad önerilmekte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OMPONETLERİNİ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ŞINLANMAS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şınlamanın yararlı olacağı durum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mün yetmezliği (özellikle T hücr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trauterin ve exchange transfüzy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raba vericil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LA uyumlu trombositl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lojenik ve otolog kök hücre nak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odgkin Hastalığ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OMPONETLERİNİ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ŞINLANMASI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Işınlanması gerekli ürün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ranülosit süspansi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raba vericilerden hazırlanan tüm kan komponent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LA uyumlu kişilerden hazırlanan trombosit süspansi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Işınlanması önerilmeyen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lazma, kriyopresipitat, plazma fraksinasyon ürün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RRAHİDE TRANSFÜZ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globin düzeyi normal çoğu erişkin için elektif cerrahi girişimler öncesi kan hazırlamaya gerek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ksimum cerrahi kan istem şeması (MSBOS) hazır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oss-match/transfüzyon oranı (C/T) hesap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TOLOG TRANSFÜZYON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tanın kendi kanının gerektiğinde kendine verilmes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üzyonun en güvenilir tip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A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üzyon riskini azaltm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ğışçı kanının stoklanmasını sağla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 bankası iş yükünü azalt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TOLOG TRANSFÜZYON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56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ntrendikasyon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Aktif bakteriyel enfeksiy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Hb&lt;11gr/d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Unstabil kardiyovasküler hastalık ve/veya hipertansi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yvandan insana transfüzyon denemel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r Denis, Dr Lower, Dr King 16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litik transfüzyon reaksiyonunun tanım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r Denis 16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sandan insana ilk transfüzyon denemel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r Blundell 18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O kan grubu sisteminin ilk tanımlanmas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r Landsteiner 1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TRANSFÜZYONU TARİHÇESİ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TOLOG TRANSFÜZYON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981080"/>
            <a:ext cx="802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eşitler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preoperatif deposit,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normovolemik hemodilüsyon,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peroperatif salvage,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postoperatif sal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652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OLOG TRANSFÜZYON ÖNERİLEN OPERASYON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perasyon tür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oroner arter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ajör vasküler cerra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rimer kalça replasman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lça repl. revizy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otal diz replasman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nst. Maj. Vertebra c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çilmiş nörolojik teknik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patik rezeksi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Radikal prostatekt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1066680"/>
            <a:ext cx="685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054080"/>
            <a:ext cx="914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066680"/>
            <a:ext cx="99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İ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1054080"/>
            <a:ext cx="914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NİDOĞAN VE PEDİATRİ’DE TRANSFÜZ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7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üçük volümlü özel kan torbaları kullan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üzyon amacıyla enjektöre alınan kan bekletilme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ze kan tercih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NİDOĞAN VE PEDİATRİ’DE TRANSFÜZ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686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ğne kalınlığı az ise eritrositler dilüe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ökositten arındırılmalıdır (CMV tehlik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trauterin transfüzyonlarda ışınlanmış ürün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kor tarama/crossmatch anne serumu ile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nsfüzyon öncesi uygunluk testler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 Ottenberg, 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andsteiner’in Nobel ödülü almas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Rh faktörünün tanımlanmas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 Landsteiner, Dr Weiner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CD’nin geliştirilme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 Loutit, Dr Mollison, II. Dünya Sava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erikan Kızılhaç Organizasyon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 Drew,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TRANSFÜZYONU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 Uygulamalarını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kinliğ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ğru hastaya, doğru ürünün seç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rünün güvenli bağışçıdan ve uygun şekilde hazırlan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üm kontrolleri yapılarak doğru şekilde verilmesi ile artır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100 güvenilir transfüzyon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eksiz transfüzyonlar önlen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a Gerek Kalmayabil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emide erken tanı ve ted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perasyon öncesi aneminin tanı ve tedav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ut kan kayıplarında daha güvenilir, ucuz ve benzer etkinlikteki sıvılara öncelik veril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ygun cerrahi ve anestezik yaklaşımla transfüzyon gereksiniminin minimale indi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349360"/>
            <a:ext cx="883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68640"/>
            <a:ext cx="8839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495680"/>
            <a:ext cx="883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A KARAR VERİR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da gerçekten transfüzyon endikasyonu var mı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htiyaç duyulan komponent hangisidi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ç ünite transfüzyon yapılmal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ürününün hastaya yararları ve zararları ne olacaktı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 Kararını Etkileyen Faktör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dikasyon ve risklerle ilgili bilgi eks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stalardan etkilen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ürününün temin edilebilir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hbere danış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li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048120"/>
            <a:ext cx="7924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657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MA, 1990; 264:471-4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 kan transfüzyon tedavisinde amaç öncelikle eksikleri yerine koymaktı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Etkili kan transfüzyon tedavisi kan komponentlerinin kullanılmasıyla ol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06-10-17T16:02:2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