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47EB0-7833-4AF4-99A2-3C5001AB3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D57EC-34BE-45FD-A6F0-93D4FE8D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62752-DC54-433E-BD8A-346E949AC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D3911-8083-4F05-B8B2-2D5A0EDBE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FC744-DDDC-4D60-A25E-233CAF62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E934-D969-4E0F-AFE8-89C9C142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9698F-556F-4E28-ACF7-57A2853C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9D81-244D-4CBA-8974-9435EE72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2F13-A68B-4236-99B1-855C98C0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62E9-0C46-4721-AFEF-F5CFE9CB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21B5-C795-45BB-B604-BAC3F621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690B-BCC9-41B8-9DEB-2A21775E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D327-4306-4B62-82FB-AF69BF79F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KAN BANKACILIĞI ORGANİZASYON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3352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Uygun maliyetle sağladığı ürünleri uygun ücretle sunabilmelidi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astane içinde ve dışında kan toplayan bağışçı merkezleri açabilmelidi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yıt sistemleri güvenilir, uzun süre saklanabilen, performansı değerlendiren ve denetlenebilen tipte olmalıdı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iziksel şartlar yeterli olmalıdı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r noktada eğitimli, konusunda uzman personel çalışmalıdı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lite yönetim sistemi olmalı, sürekli denetlenmelidi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ferez işlemlerini yapacak altyapıya sahip olmalıdır.</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ğitim ve araştırma hizmetlerini yapacak şekilde yapılanmalı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74320"/>
            <a:ext cx="9524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HASTANE TRANSFÜZYON MERKEZLERİ</a:t>
            </a:r>
            <a:endParaRPr b="0" lang="en-US" sz="4000" spc="-1" strike="noStrike">
              <a:solidFill>
                <a:srgbClr val="000000"/>
              </a:solidFill>
              <a:latin typeface="Arial"/>
            </a:endParaRPr>
          </a:p>
        </p:txBody>
      </p:sp>
      <p:sp>
        <p:nvSpPr>
          <p:cNvPr id="59"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ve kan komponentlerini bölgesel kan merkezinden temin etmel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ransfüzyon öncesi uygunluk testlerini ve gerekli immünohematolojik testleri yapabilmel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ransfüzyon pratiği ve transfüzyon takibi konularında eğitim ve uygulamaları takip etmel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erektiğinde ayaktan transfüzyon tedavilerini yapan bir merkez olarak çalışabilmel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endi bünyesinde hemovigilance uygulamalarını sürdürmeli, merkezle bağlantılı ol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astane transfüzyon komiteleri ile çalış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liniklerle ilişkileri düzenlemeli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LİTE VE STANDARTLAR</a:t>
            </a:r>
            <a:endParaRPr b="0" lang="en-US" sz="4000" spc="-1" strike="noStrike">
              <a:solidFill>
                <a:srgbClr val="000000"/>
              </a:solidFill>
              <a:latin typeface="Arial"/>
            </a:endParaRPr>
          </a:p>
        </p:txBody>
      </p:sp>
      <p:sp>
        <p:nvSpPr>
          <p:cNvPr id="61" name="PlaceHolder 2"/>
          <p:cNvSpPr>
            <a:spLocks noGrp="1"/>
          </p:cNvSpPr>
          <p:nvPr>
            <p:ph/>
          </p:nvPr>
        </p:nvSpPr>
        <p:spPr>
          <a:xfrm>
            <a:off x="394920" y="1197000"/>
            <a:ext cx="8101080" cy="4175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ölgesel kan merkezleri, hastane transfüzyon merkezleri ve transfüzyon yapılan kliniklerde her türlü uygulama ile ilgili standart işletim prosedürleri (SOP) hazırlanmalı ve uygulanması sağlanmalıdır</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ve kan komponenti istemleri ile ilgili istek formları standart olmalıdır</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errahi klinikleri olan her hastane kan istem şeması hazırlamal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LİTE VE STANDARTLAR</a:t>
            </a:r>
            <a:endParaRPr b="0" lang="en-US" sz="4000" spc="-1" strike="noStrike">
              <a:solidFill>
                <a:srgbClr val="000000"/>
              </a:solidFill>
              <a:latin typeface="Arial"/>
            </a:endParaRPr>
          </a:p>
        </p:txBody>
      </p:sp>
      <p:sp>
        <p:nvSpPr>
          <p:cNvPr id="63" name="PlaceHolder 2"/>
          <p:cNvSpPr>
            <a:spLocks noGrp="1"/>
          </p:cNvSpPr>
          <p:nvPr>
            <p:ph/>
          </p:nvPr>
        </p:nvSpPr>
        <p:spPr>
          <a:xfrm>
            <a:off x="395280" y="1125000"/>
            <a:ext cx="8569440" cy="4830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er ünite kan için hasta bilgilendirme ve transfüzyon geri bildirim formu gönderilmelidir</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ölgesel kan merkezleri ve hastane transfüzyon merkezlerinde her uygulama iç ve dış kalite kontrol programları çerçevesinde denetlenmeli, kan merkezleri uygun kurumlar tarafından akredite edilmelidir</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ölgesel kan merkezleri ve hastane transfüzyon merkezinde kullanılan test reaktifleri, sarf malzemeleri kalite koşullarını sağlamal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HEMOVİGİLANCE</a:t>
            </a:r>
            <a:endParaRPr b="0" lang="en-US" sz="4000" spc="-1" strike="noStrike">
              <a:solidFill>
                <a:srgbClr val="000000"/>
              </a:solidFill>
              <a:latin typeface="Arial"/>
            </a:endParaRPr>
          </a:p>
        </p:txBody>
      </p:sp>
      <p:sp>
        <p:nvSpPr>
          <p:cNvPr id="65" name="PlaceHolder 2"/>
          <p:cNvSpPr>
            <a:spLocks noGrp="1"/>
          </p:cNvSpPr>
          <p:nvPr>
            <p:ph/>
          </p:nvPr>
        </p:nvSpPr>
        <p:spPr>
          <a:xfrm>
            <a:off x="178920" y="981000"/>
            <a:ext cx="882036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bağışçısı seçiminden hastaya kanın verilmesine kadar her kademede kayıtlar güvenilir biçimde tutul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astaya verilen kanın her kademede geriye dönük olarak izlenebilmesi sağlan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ransfüzyon geri bildirim formlarının doldurulması, özellikle hastane transfüzyon merkezlerinin transfüzyonun akıbeti konusunda ve her türlü transfüzyon reaksiyonu bakımından bilgilendirilmesi sağlan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ost-transfüzyon enfeksiyonlar araştırılmalı ve bildirilmel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bağışçısı reaksiyonları düzenli olarak kayıt altında tutulmalı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Hastane transfüzyon komitelerinde yapılan lokal değerlendirmeler önce bölgesel sonra da ulusal hemovigilance merkezine gönderilme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Hem hastane transfüzyon komiteleri, hem de ulusal hemovigilance merkezi tarafından istatistiki değerlendirmeler yapılmalı, güvenli kan ve transfüzyon uygulamaları konusunda düzenlemeler yayınlanmalıd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360" y="981000"/>
            <a:ext cx="82296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ğru planlamalarla doğru organizasyonlar ortaya çık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ğru planlamalar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Çalışacak personel sayısı ve nitelikle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is edilecek merkezin fiziki kapasites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ekli cihazların nitelik ve niceliğ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ğru hesaplan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PLANLAMA</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LT YAP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izik özellikler (bina durum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lektrik, jeneratö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liteli su ve yedek su kaynağ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mizlenebilir yüzey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septik ortam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transportu için uygun or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95280" y="1197000"/>
            <a:ext cx="8507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KİPM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Verimli kullanılabilmesi için seçilecek ekipmanın alt yapı ve lokal koşullara uygun olması önemlidi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saklama dolabı, soğuk oda ve derin dondurucular için gerekli kapasite her birinde saklanacak ürün sayısına göre belirlenmelid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4000" y="907560"/>
            <a:ext cx="8640720" cy="488484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OKAL KOŞULLAR</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izik özellikler: Oda sayısı ve özellikleri</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lektrik: Şebeke, jeneratör, akım değişimi vb.</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u: Şebeke, dağılım, kalite, ısı, yedekle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tık sistemi: Ana atık sistemi ve drenaj</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ava: Isı, nem ve klima özellikleri</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zeyler: Temizlenebilir</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uvarlar: Elektrik tesisatı, ekipmana uzaklık</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ılar: Genişlik, açılma yönü vb.</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1" lang="tr-TR" sz="2800" spc="-1" strike="noStrike">
                <a:solidFill>
                  <a:srgbClr val="000000"/>
                </a:solidFill>
                <a:latin typeface="Arial"/>
              </a:rPr>
              <a:t>	</a:t>
            </a:r>
            <a:r>
              <a:rPr b="1" lang="tr-TR" sz="2800" spc="-1" strike="noStrike">
                <a:solidFill>
                  <a:srgbClr val="000000"/>
                </a:solidFill>
                <a:latin typeface="Arial"/>
              </a:rPr>
              <a:t>	</a:t>
            </a:r>
            <a:r>
              <a:rPr b="1" lang="tr-TR" sz="2800" spc="-1" strike="noStrike">
                <a:solidFill>
                  <a:srgbClr val="000000"/>
                </a:solidFill>
                <a:latin typeface="Arial"/>
              </a:rPr>
              <a:t>için uygun plan yapılmal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056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LUSAL KAN POLİTİKASI-TANIM</a:t>
            </a:r>
            <a:endParaRPr b="0" lang="en-US" sz="4000" spc="-1" strike="noStrike">
              <a:solidFill>
                <a:srgbClr val="000000"/>
              </a:solidFill>
              <a:latin typeface="Arial"/>
            </a:endParaRPr>
          </a:p>
        </p:txBody>
      </p:sp>
      <p:sp>
        <p:nvSpPr>
          <p:cNvPr id="43" name="PlaceHolder 2"/>
          <p:cNvSpPr>
            <a:spLocks noGrp="1"/>
          </p:cNvSpPr>
          <p:nvPr>
            <p:ph/>
          </p:nvPr>
        </p:nvSpPr>
        <p:spPr>
          <a:xfrm>
            <a:off x="250560" y="1600200"/>
            <a:ext cx="8893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n bankacılığı ve transfüzyon tıbbı alanında, topluma; düzenli ve güvenilir sağlık hizmetinin adil ve sürekli sunumunu sağlamak üzere yapılan düzenlemelerd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Öncelikle organizasyon ve eğitimle ilgili şemalar kurmak, bunları kanun ve yönetmeliklerle desteklemek, sistemin doğru işlediğini sürekli ve dinamik biçimde izlemek, gerekli iyileştirici ve düzeltici önlemlerle yeni düzenlemeler yapmak bu politika kapsamında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N MERKEZİ ORGANİZASYONU</a:t>
            </a:r>
            <a:endParaRPr b="0" lang="en-US" sz="4000" spc="-1" strike="noStrike">
              <a:solidFill>
                <a:srgbClr val="000000"/>
              </a:solidFill>
              <a:latin typeface="Arial"/>
            </a:endParaRPr>
          </a:p>
        </p:txBody>
      </p:sp>
      <p:sp>
        <p:nvSpPr>
          <p:cNvPr id="73"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LUNMASI GEREKEN BÖLÜM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bağışçısı bekleme ve değerlendirme odas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alma odas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ikrobiyoloji laboratuvar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ematoloji laboratuvar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mponent hazırlama laboratuvar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mponent saklama odas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92280"/>
            <a:ext cx="8362800" cy="54338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AN BAĞIŞÇISI BEKLEME VE DEĞERLENDİRME ODAS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eterli sayıda koltuk, sandalye, masa v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eterli bilgisayar donanım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art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ansiyon aleti, stetesk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b veya Hct test siste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ALMA ODAS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bağış koltuğ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alma, çalkalama cihaz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p kapama cihaz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lgisay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cil müdahale malzeme ve ekipman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24000" y="1268280"/>
            <a:ext cx="864072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İKROBİYOLOJİ LABORATUVARI</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p santrifüj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LISA vb (cihaz, pipet v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Örnek saklama dolabı (2-8 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lgisay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ıcak su banyosu, vorteks, shaker, aglütinoskop, mikroplate v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413000"/>
            <a:ext cx="86868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İMMÜNOHEMATOLOJİ LABORATUVA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p santrifüj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mmünohematoloji siste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Örnek saklama dolabı (2-8</a:t>
            </a:r>
            <a:r>
              <a:rPr b="1" lang="en-US" sz="2800" spc="-1" strike="noStrike">
                <a:solidFill>
                  <a:srgbClr val="000000"/>
                </a:solidFill>
                <a:latin typeface="Arial"/>
                <a:ea typeface="Arial"/>
              </a:rPr>
              <a:t>°</a:t>
            </a:r>
            <a:r>
              <a:rPr b="1" lang="tr-TR" sz="2800" spc="-1" strike="noStrike">
                <a:solidFill>
                  <a:srgbClr val="000000"/>
                </a:solidFill>
                <a:latin typeface="Arial"/>
              </a:rPr>
              <a: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ikrosk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lgisay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1413000"/>
            <a:ext cx="91454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OMPONENT HAZIRLAMA LABORATUAR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sı ayarlı santrifü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kstraktö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assas tartı</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teril bağlantı cihazı</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Şok ve derin donduruc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lgisay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ışınlama cihaz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OMPONENT SAKLAMA ODAS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saklama dolab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rin donduruc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rombosit ajitatörü ve inkübatör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lgisay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90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ölgesel Kan Merkezi (BKM)</a:t>
            </a:r>
            <a:endParaRPr b="0" lang="en-US" sz="4000" spc="-1" strike="noStrike">
              <a:solidFill>
                <a:srgbClr val="000000"/>
              </a:solidFill>
              <a:latin typeface="Arial"/>
            </a:endParaRPr>
          </a:p>
        </p:txBody>
      </p:sp>
      <p:sp>
        <p:nvSpPr>
          <p:cNvPr id="81" name="PlaceHolder 2"/>
          <p:cNvSpPr>
            <a:spLocks noGrp="1"/>
          </p:cNvSpPr>
          <p:nvPr>
            <p:ph type="subTitle"/>
          </p:nvPr>
        </p:nvSpPr>
        <p:spPr>
          <a:xfrm>
            <a:off x="178920" y="1267920"/>
            <a:ext cx="8713800" cy="51850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KM’nin temel görevleri ve bunlarla ilgili ana hizmet birimleri aşağıdaki gibidir;</a:t>
            </a:r>
            <a:endParaRPr b="0" lang="en-US" sz="28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bağışçısı kazanım ve halkla ilişkiler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bağış kabul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ikrobiyoloji laboratuvarı</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 gruplama  laboratuvarı</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oğrulama (mikrobiyoloji ve immünohematoloji) lab.</a:t>
            </a:r>
            <a:r>
              <a:rPr b="1" lang="tr-TR" sz="2400" spc="-1" strike="noStrike">
                <a:solidFill>
                  <a:srgbClr val="000000"/>
                </a:solidFill>
                <a:latin typeface="Arial"/>
              </a:rPr>
              <a:t>	</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lite güvence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lite kontrol laboratuvarları</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omponent hazırlama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riyoprezervasyon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polama, taşıma birimi</a:t>
            </a:r>
            <a:endParaRPr b="0" lang="en-US" sz="24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omponent kalite kontrol birimi</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1890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ölgesel Kan Merkezi (BKM)</a:t>
            </a:r>
            <a:endParaRPr b="0" lang="en-US" sz="4000" spc="-1" strike="noStrike">
              <a:solidFill>
                <a:srgbClr val="000000"/>
              </a:solidFill>
              <a:latin typeface="Arial"/>
            </a:endParaRPr>
          </a:p>
        </p:txBody>
      </p:sp>
      <p:sp>
        <p:nvSpPr>
          <p:cNvPr id="83" name="PlaceHolder 2"/>
          <p:cNvSpPr>
            <a:spLocks noGrp="1"/>
          </p:cNvSpPr>
          <p:nvPr>
            <p:ph type="subTitle"/>
          </p:nvPr>
        </p:nvSpPr>
        <p:spPr>
          <a:xfrm>
            <a:off x="179280" y="1267920"/>
            <a:ext cx="8964720" cy="5185080"/>
          </a:xfrm>
          <a:prstGeom prst="rect">
            <a:avLst/>
          </a:prstGeom>
          <a:noFill/>
          <a:ln w="0">
            <a:noFill/>
          </a:ln>
        </p:spPr>
        <p:txBody>
          <a:bodyPr lIns="90000" rIns="90000" tIns="46800" bIns="46800" anchor="t">
            <a:no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li işler birimi</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ilgi ve otomasyon işlem birimi</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eknik işler birimi</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laşım birimi</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ari işler birimi</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raştırma – geliştirme ve eğitim birim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lirtilen ana birimler işleyiş, görev ve sorumluluklara göre alt birimlerini oluşturu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60"/>
            <a:ext cx="777240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KM Temel Malzeme ve Donanım Listes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5" name="PlaceHolder 2"/>
          <p:cNvSpPr>
            <a:spLocks noGrp="1"/>
          </p:cNvSpPr>
          <p:nvPr>
            <p:ph type="subTitle"/>
          </p:nvPr>
        </p:nvSpPr>
        <p:spPr>
          <a:xfrm>
            <a:off x="178920" y="1267920"/>
            <a:ext cx="8713800" cy="518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6" name=""/>
          <p:cNvSpPr/>
          <p:nvPr/>
        </p:nvSpPr>
        <p:spPr>
          <a:xfrm>
            <a:off x="826920" y="1531080"/>
            <a:ext cx="74170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87" name=""/>
          <p:cNvSpPr/>
          <p:nvPr/>
        </p:nvSpPr>
        <p:spPr>
          <a:xfrm>
            <a:off x="3178080" y="-495360"/>
            <a:ext cx="2984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a:t>
            </a:r>
            <a:endParaRPr b="0" lang="en-US" sz="800" spc="-1" strike="noStrike">
              <a:solidFill>
                <a:srgbClr val="000000"/>
              </a:solidFill>
              <a:latin typeface="Arial"/>
            </a:endParaRPr>
          </a:p>
        </p:txBody>
      </p:sp>
      <p:sp>
        <p:nvSpPr>
          <p:cNvPr id="88" name=""/>
          <p:cNvSpPr/>
          <p:nvPr/>
        </p:nvSpPr>
        <p:spPr>
          <a:xfrm>
            <a:off x="3543480" y="-495360"/>
            <a:ext cx="13064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80 Cº derin dondurucu*</a:t>
            </a:r>
            <a:endParaRPr b="0" lang="en-US" sz="800" spc="-1" strike="noStrike">
              <a:solidFill>
                <a:srgbClr val="000000"/>
              </a:solidFill>
              <a:latin typeface="Arial"/>
            </a:endParaRPr>
          </a:p>
        </p:txBody>
      </p:sp>
      <p:graphicFrame>
        <p:nvGraphicFramePr>
          <p:cNvPr id="89" name=""/>
          <p:cNvGraphicFramePr/>
          <p:nvPr/>
        </p:nvGraphicFramePr>
        <p:xfrm>
          <a:off x="685800" y="768240"/>
          <a:ext cx="7429680" cy="6029280"/>
        </p:xfrm>
        <a:graphic>
          <a:graphicData uri="http://schemas.openxmlformats.org/drawingml/2006/table">
            <a:tbl>
              <a:tblPr/>
              <a:tblGrid>
                <a:gridCol w="623880"/>
                <a:gridCol w="680580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ı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lzem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bit kan alma koltuğ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bil kan alma koltuğ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an alma ve çalkalama cihaz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ektrikli hortum kapama (sab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ektrikli hortum kapama (mob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P</a:t>
                      </a:r>
                      <a:r>
                        <a:rPr b="1" lang="tr-TR" sz="1600" spc="-1" strike="noStrike">
                          <a:solidFill>
                            <a:srgbClr val="000000"/>
                          </a:solidFill>
                          <a:latin typeface="Arial"/>
                          <a:ea typeface="Arial"/>
                        </a:rPr>
                        <a:t>lazma ekstraktö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an saklama dolab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ombosit saklama odası +20Cº - 22 C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ombosit ajitatörü (büyük bo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ı ayarlı, t</a:t>
                      </a:r>
                      <a:r>
                        <a:rPr b="1" lang="en-US" sz="1600" spc="-1" strike="noStrike">
                          <a:solidFill>
                            <a:srgbClr val="000000"/>
                          </a:solidFill>
                          <a:latin typeface="Arial"/>
                          <a:ea typeface="Arial"/>
                        </a:rPr>
                        <a:t>orba kanı ayırma santrifüjü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Plazma şok dondurucu  (lab. tip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azma şok dondurucu (araç tip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eril hortum  kaynak cihaz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ektrikli hassas teraz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an nakil kutus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ferez cihaz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zgah üstü tüp santrifüj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20280"/>
            <a:ext cx="850752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lusal kan politikası, ulusal sağlık politikasının bir parçası olmalı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lusal kan politikası şunları açıklamalıdı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ivitelerden sorumlu organizasyon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ivitelerin finansal kaynakların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bul edilebilir kan bağışçı tiplerin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de edilen kanın güvenli ve etkili taşınması ve kullanılmasını; transfüzyonun belli kurallar çerçevesinde yapılmasın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640"/>
            <a:ext cx="7772400" cy="4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KM Temel Malzeme ve Donanım Listes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type="subTitle"/>
          </p:nvPr>
        </p:nvSpPr>
        <p:spPr>
          <a:xfrm>
            <a:off x="178920" y="1267920"/>
            <a:ext cx="8713800" cy="518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
          <p:cNvSpPr/>
          <p:nvPr/>
        </p:nvSpPr>
        <p:spPr>
          <a:xfrm>
            <a:off x="826920" y="1556640"/>
            <a:ext cx="61930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graphicFrame>
        <p:nvGraphicFramePr>
          <p:cNvPr id="93" name=""/>
          <p:cNvGraphicFramePr/>
          <p:nvPr/>
        </p:nvGraphicFramePr>
        <p:xfrm>
          <a:off x="755640" y="1125360"/>
          <a:ext cx="7704000" cy="5154480"/>
        </p:xfrm>
        <a:graphic>
          <a:graphicData uri="http://schemas.openxmlformats.org/drawingml/2006/table">
            <a:tbl>
              <a:tblPr/>
              <a:tblGrid>
                <a:gridCol w="539640"/>
                <a:gridCol w="716436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ı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lzem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r>
                        <a:rPr b="1" lang="en-US" sz="1400" spc="-1" strike="noStrike">
                          <a:solidFill>
                            <a:srgbClr val="000000"/>
                          </a:solidFill>
                          <a:latin typeface="Arial"/>
                          <a:ea typeface="Arial"/>
                        </a:rPr>
                        <a:t>an gruplama sis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Laminar air f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n saklama dolab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DP saklama dolab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Şahit plazma örneği saklama dolab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Şahit kan örneği saklama dolab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krosko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emoglobin tayin sis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ansiyon aleti</a:t>
                      </a:r>
                      <a:r>
                        <a:rPr b="1" lang="tr-TR" sz="1400" spc="-1" strike="noStrike">
                          <a:solidFill>
                            <a:srgbClr val="000000"/>
                          </a:solidFill>
                          <a:latin typeface="Arial"/>
                          <a:ea typeface="Arial"/>
                        </a:rPr>
                        <a:t> ve stetesko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il müdahale ki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okla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Doğrulama Laboratuvarı Sis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tü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İnkübatö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Kriyopreservasyon sis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80 Cº derin donduruc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404640"/>
            <a:ext cx="7772400" cy="4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KM Ulaşım Araç Listesi ve Özellikler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type="subTitle"/>
          </p:nvPr>
        </p:nvSpPr>
        <p:spPr>
          <a:xfrm>
            <a:off x="429840" y="1673280"/>
            <a:ext cx="8713800" cy="51847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
          <p:cNvSpPr/>
          <p:nvPr/>
        </p:nvSpPr>
        <p:spPr>
          <a:xfrm>
            <a:off x="826920" y="1531080"/>
            <a:ext cx="74170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graphicFrame>
        <p:nvGraphicFramePr>
          <p:cNvPr id="97" name=""/>
          <p:cNvGraphicFramePr/>
          <p:nvPr/>
        </p:nvGraphicFramePr>
        <p:xfrm>
          <a:off x="395280" y="1989000"/>
          <a:ext cx="8294760" cy="2319480"/>
        </p:xfrm>
        <a:graphic>
          <a:graphicData uri="http://schemas.openxmlformats.org/drawingml/2006/table">
            <a:tbl>
              <a:tblPr/>
              <a:tblGrid>
                <a:gridCol w="568440"/>
                <a:gridCol w="3032280"/>
                <a:gridCol w="469404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ı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Ulaşım Arac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Ulaşım Arac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an nakil arac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2</a:t>
                      </a:r>
                      <a:r>
                        <a:rPr b="1" lang="en-US" sz="1600" spc="-1" strike="noStrike">
                          <a:solidFill>
                            <a:srgbClr val="000000"/>
                          </a:solidFill>
                          <a:latin typeface="Arial"/>
                          <a:ea typeface="Arial"/>
                        </a:rPr>
                        <a:t>°</a:t>
                      </a:r>
                      <a:r>
                        <a:rPr b="1" lang="tr-TR" sz="1600" spc="-1" strike="noStrike">
                          <a:solidFill>
                            <a:srgbClr val="000000"/>
                          </a:solidFill>
                          <a:latin typeface="Arial"/>
                          <a:ea typeface="Arial"/>
                        </a:rPr>
                        <a:t>C /+6</a:t>
                      </a:r>
                      <a:r>
                        <a:rPr b="1" lang="en-US" sz="1600" spc="-1" strike="noStrike">
                          <a:solidFill>
                            <a:srgbClr val="000000"/>
                          </a:solidFill>
                          <a:latin typeface="Arial"/>
                          <a:ea typeface="Arial"/>
                        </a:rPr>
                        <a:t>°</a:t>
                      </a:r>
                      <a:r>
                        <a:rPr b="1" lang="tr-TR" sz="1600" spc="-1" strike="noStrike">
                          <a:solidFill>
                            <a:srgbClr val="000000"/>
                          </a:solidFill>
                          <a:latin typeface="Arial"/>
                          <a:ea typeface="Arial"/>
                        </a:rPr>
                        <a:t>C ısıda taşıma özelliği v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azma nakil arac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 20</a:t>
                      </a:r>
                      <a:r>
                        <a:rPr b="1" lang="en-US" sz="1600" spc="-1" strike="noStrike">
                          <a:solidFill>
                            <a:srgbClr val="000000"/>
                          </a:solidFill>
                          <a:latin typeface="Arial"/>
                          <a:ea typeface="Arial"/>
                        </a:rPr>
                        <a:t>°</a:t>
                      </a:r>
                      <a:r>
                        <a:rPr b="1" lang="tr-TR" sz="1600" spc="-1" strike="noStrike">
                          <a:solidFill>
                            <a:srgbClr val="000000"/>
                          </a:solidFill>
                          <a:latin typeface="Arial"/>
                          <a:ea typeface="Arial"/>
                        </a:rPr>
                        <a:t>C ısıda taşıma özelliği v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bil ekip arac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bil ekibe gidecek personel ve malzeme taş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bil kan bağış aracı (büyü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 kan alma yataklı özel araç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bil kan bağış aracı (küçü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 kan alma yataklı özel ara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404640"/>
            <a:ext cx="8351640" cy="4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KM Teknik ve Lojistik Destek Birimleri ve Özellikler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type="subTitle"/>
          </p:nvPr>
        </p:nvSpPr>
        <p:spPr>
          <a:xfrm>
            <a:off x="178920" y="1267920"/>
            <a:ext cx="8713800" cy="518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
          <p:cNvSpPr/>
          <p:nvPr/>
        </p:nvSpPr>
        <p:spPr>
          <a:xfrm>
            <a:off x="826920" y="1531080"/>
            <a:ext cx="74170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graphicFrame>
        <p:nvGraphicFramePr>
          <p:cNvPr id="101" name=""/>
          <p:cNvGraphicFramePr/>
          <p:nvPr/>
        </p:nvGraphicFramePr>
        <p:xfrm>
          <a:off x="250920" y="1484280"/>
          <a:ext cx="8686800" cy="4008600"/>
        </p:xfrm>
        <a:graphic>
          <a:graphicData uri="http://schemas.openxmlformats.org/drawingml/2006/table">
            <a:tbl>
              <a:tblPr/>
              <a:tblGrid>
                <a:gridCol w="520920"/>
                <a:gridCol w="3616200"/>
                <a:gridCol w="4549680"/>
              </a:tblGrid>
              <a:tr h="33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ı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tek  Biri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tek  Biri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omasy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üm dahili ve dış otomasyon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ktrik &amp; Aydınlat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ktrik sistemi ve aydınlatma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ıhhi Tesis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 kalorifer, kanalizasyon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ıtma &amp; Soğut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lorifer ve klima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şı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lzeme, mobil ekip, ürün taşıma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lzeme Depola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üm malzemelerin depolanmasın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n &amp; vb  Depola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n, TDP, vb depolanmasından sorumlu bir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333000"/>
            <a:ext cx="777240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KM Personel  Listesi ve Özellikleri</a:t>
            </a:r>
            <a:endParaRPr b="0" lang="en-US" sz="2400" spc="-1" strike="noStrike">
              <a:solidFill>
                <a:srgbClr val="000000"/>
              </a:solidFill>
              <a:latin typeface="Arial"/>
            </a:endParaRPr>
          </a:p>
        </p:txBody>
      </p:sp>
      <p:sp>
        <p:nvSpPr>
          <p:cNvPr id="103" name="PlaceHolder 2"/>
          <p:cNvSpPr>
            <a:spLocks noGrp="1"/>
          </p:cNvSpPr>
          <p:nvPr>
            <p:ph type="subTitle"/>
          </p:nvPr>
        </p:nvSpPr>
        <p:spPr>
          <a:xfrm>
            <a:off x="179280" y="1267920"/>
            <a:ext cx="8964720" cy="518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04" name=""/>
          <p:cNvGraphicFramePr/>
          <p:nvPr/>
        </p:nvGraphicFramePr>
        <p:xfrm>
          <a:off x="685800" y="380880"/>
          <a:ext cx="7169040" cy="6081840"/>
        </p:xfrm>
        <a:graphic>
          <a:graphicData uri="http://schemas.openxmlformats.org/drawingml/2006/table">
            <a:tbl>
              <a:tblPr/>
              <a:tblGrid>
                <a:gridCol w="716904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KM Müd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KM Müdür Yardımcı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Laboratuvar Uzman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Kalite güven</a:t>
                      </a:r>
                      <a:r>
                        <a:rPr b="1" lang="tr-TR" sz="1400" spc="-1" strike="noStrike">
                          <a:solidFill>
                            <a:srgbClr val="000000"/>
                          </a:solidFill>
                          <a:latin typeface="Arial"/>
                        </a:rPr>
                        <a:t>ce</a:t>
                      </a:r>
                      <a:r>
                        <a:rPr b="1" lang="tr-TR" sz="1400" spc="-1" strike="noStrike">
                          <a:solidFill>
                            <a:srgbClr val="000000"/>
                          </a:solidFill>
                          <a:latin typeface="Arial"/>
                          <a:ea typeface="Arial"/>
                        </a:rPr>
                        <a:t> ve</a:t>
                      </a:r>
                      <a:r>
                        <a:rPr b="1" lang="tr-TR" sz="1400" spc="-1" strike="noStrike">
                          <a:solidFill>
                            <a:srgbClr val="000000"/>
                          </a:solidFill>
                          <a:latin typeface="Arial"/>
                        </a:rPr>
                        <a:t> kalite</a:t>
                      </a:r>
                      <a:r>
                        <a:rPr b="1" lang="tr-TR" sz="1400" spc="-1" strike="noStrike">
                          <a:solidFill>
                            <a:srgbClr val="000000"/>
                          </a:solidFill>
                          <a:latin typeface="Arial"/>
                          <a:ea typeface="Arial"/>
                        </a:rPr>
                        <a:t> kontrol </a:t>
                      </a:r>
                      <a:r>
                        <a:rPr b="1" lang="tr-TR" sz="1400" spc="-1" strike="noStrike">
                          <a:solidFill>
                            <a:srgbClr val="000000"/>
                          </a:solidFill>
                          <a:latin typeface="Arial"/>
                        </a:rPr>
                        <a:t>u</a:t>
                      </a:r>
                      <a:r>
                        <a:rPr b="1" lang="tr-TR" sz="1400" spc="-1" strike="noStrike">
                          <a:solidFill>
                            <a:srgbClr val="000000"/>
                          </a:solidFill>
                          <a:latin typeface="Arial"/>
                          <a:ea typeface="Arial"/>
                        </a:rPr>
                        <a:t>z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kip Doktor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emşi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ıbbi Teknisy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omasyon Sistem Uzman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omasyon Teknisye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knisy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ğış Organizatö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yıt ve İstatistik Memur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po Görevlil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ea typeface="Arial"/>
                        </a:rPr>
                        <a:t>Şöfö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üro Görevlil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üvenli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mizli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Çamaş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m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
          <p:cNvSpPr/>
          <p:nvPr/>
        </p:nvSpPr>
        <p:spPr>
          <a:xfrm>
            <a:off x="1042920" y="6362640"/>
            <a:ext cx="7129440" cy="24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N KANUNU</a:t>
            </a:r>
            <a:endParaRPr b="0" lang="en-US" sz="4000" spc="-1" strike="noStrike">
              <a:solidFill>
                <a:srgbClr val="000000"/>
              </a:solidFill>
              <a:latin typeface="Arial"/>
            </a:endParaRPr>
          </a:p>
        </p:txBody>
      </p:sp>
      <p:sp>
        <p:nvSpPr>
          <p:cNvPr id="107" name="PlaceHolder 2"/>
          <p:cNvSpPr>
            <a:spLocks noGrp="1"/>
          </p:cNvSpPr>
          <p:nvPr>
            <p:ph/>
          </p:nvPr>
        </p:nvSpPr>
        <p:spPr>
          <a:xfrm>
            <a:off x="468000" y="1628640"/>
            <a:ext cx="84963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de kan bankacılığı uygulamaları 23.06.1983 tarihinde çıkan 2857 sayılı “Kan ve kan ürünleri kanunu” tarafından düzenlen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kanun çıktığı dönemin koşullarına göre, kan bankacılığı ve transfüzyon tıbbı alanında özellikle organizasyon açısından düzenleyici bir kanun olmuşt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BU KANUNLA;</a:t>
            </a:r>
            <a:endParaRPr b="0" lang="en-US" sz="4000" spc="-1" strike="noStrike">
              <a:solidFill>
                <a:srgbClr val="000000"/>
              </a:solidFill>
              <a:latin typeface="Arial"/>
            </a:endParaRPr>
          </a:p>
        </p:txBody>
      </p:sp>
      <p:sp>
        <p:nvSpPr>
          <p:cNvPr id="109" name="PlaceHolder 2"/>
          <p:cNvSpPr>
            <a:spLocks noGrp="1"/>
          </p:cNvSpPr>
          <p:nvPr>
            <p:ph/>
          </p:nvPr>
        </p:nvSpPr>
        <p:spPr>
          <a:xfrm>
            <a:off x="394920" y="907920"/>
            <a:ext cx="8497800" cy="45259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Tedavi kurumları, ihtiyaçları olan kan ve kan ürünlerini temin etmek ve stoklamakla yükümlü tutulmakta ve piyasada çalışan özel kan merkezleri tasfiye edilmektedir.</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nun, amir hükümleri doğrultusunda Sağlık Bakanlığı’nın görev ve yetkilerini de belirlemiştir.</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kanuna göre; ayrıca kan ve kan ürünleri ile ilgili planlamaları yapmak, gelişmelere göre gerekli önerilerde bulunmak ve çıkabilecek teknik sorunları çözmek üzere; SB müsteşarı başkanlığında, SB, MSB, SSK, GATA, Ankara’daki Tıp Fakülteleri, TKD temsilcileri ile ayrıca seçilen 3 uzman temsilciden oluşan bir “Kan ve Kan Ürünleri Danışma Kurulu” oluşturulmakta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560" y="764640"/>
            <a:ext cx="8713800" cy="4526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Özel kan merkezlerinin geçici madde ile tasfiyesi ile doğacak boşluğu kapatmak için Madde 3-f ile Tıp Fakülteleri, Eğitim Hastaneleri ve Sağlık Bakanlığı’nın tespit edeceği hastanelerde kan merkezi ve kan istasyonu açılması zorunlu kılınmıştır.</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adde 3-e “kan ve kan ürünleri ile ilgili faaliyette bulunan kurum ve kuruluşların Sağlık Bakanlığı tarafından hazırlanan bir plana göre kurulması ve aynı Bakanlıkça belirlenen esaslara uygun olarak çalışması zorunlu kılınmışt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94920" y="260280"/>
            <a:ext cx="8512200" cy="6120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4-d “Kanla ilgili gönüllü faaliyetleri teşvik etmek ve verici bulunması için eğitim dahil gerekli organizasyonu sağlamak, bu amaçla çalışan kuruluşlarla işbirliği yapmak, gerekli görülen hallerde personel, araç ve gereç ile her türlü yardımı temin etmek” Sağlık Bakanlığı’nın görevlerinden biri olarak belirlenmiştir</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3-a “Kan temininde bağış yolu esas olmakla birlikte gerektiğinde ücretle de alınabilir” demektedir</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3-b “Kan alınmasında, kan ve kan ürünlerinin verilmesinde donör ve kan alan kişinin sağlığının tehlikeye düşürülmemesi ve korunması” şartı,</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3-c “Kan alınması, kan ve kan ürünlerinin verilmesi hekim denetiminde ve gözetiminde yapılır” şartı koşulmakta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4-c “Sağlık Bakanlığı, Kan ve kan ürünleri alanında faaliyette bulunan gerçek ve tüzel kişileri denetlemek ve kontrol altında tutmak yetki ve sorumluluğundadır”şartı,</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7’de “Kan ve kan ürünleri ile ilgili faaliyette bulunan kurum ve kuruluşlar yılda en az iki defa Sağlık Bakanlığı’nca denetleni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6’da “Sağlık Bakanlığı tarafından belirlenen hastanelerin yine Bakanlık tarafından belirlenen miktarda kan ve kan ürünü stok etmesini” zorunlu kılmaktadı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adde 4-e Sağlık Bakanlığı’nı “olağanüstü haller ve savaş halinde gerekecek kan ve kan ürünleri ve bunlar için gerekli malzemenin ülke çapında stoklanmasını” organize etmekle görevli kılmakta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YÖNETMELİK</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65 yılında çıkartılan yönetmelik, 1972 ve 1977 yıllarında değiştirilmiş; 23.6.1983 tarihinde yürürlüğe giren 2857 sayılı Kan ve Kan Ürünleri Kanununun 8.maddesine dayanarak 25.11.1983 tarihinde kan merkezlerinin işleyişini düzenlemek üzere yayınlanmıştı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MAÇLAR-1</a:t>
            </a:r>
            <a:endParaRPr b="0" lang="en-US" sz="4000" spc="-1" strike="noStrike">
              <a:solidFill>
                <a:srgbClr val="000000"/>
              </a:solidFill>
              <a:latin typeface="Arial"/>
            </a:endParaRPr>
          </a:p>
        </p:txBody>
      </p:sp>
      <p:sp>
        <p:nvSpPr>
          <p:cNvPr id="4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Gönüllü, karşılıksız, düzenli, sorumlu kan bağışçılarında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yi donanımlı kan merkezlerinde toplan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layca ulaşılabili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Güvenli, kaliteli ve yeterli miktarlar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ransfüzyonla geçen enfeksiyon etkenlerini taşımaya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Uygun şekilde hazırlanan, depolanan, taşınan kan ve kan komponentlerinin sağlanmasıdı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N MERKEZLERİ VE</a:t>
            </a:r>
            <a:br>
              <a:rPr sz="4000"/>
            </a:br>
            <a:r>
              <a:rPr b="1" lang="tr-TR" sz="4000" spc="-1" strike="noStrike">
                <a:solidFill>
                  <a:srgbClr val="000000"/>
                </a:solidFill>
                <a:latin typeface="Arial"/>
              </a:rPr>
              <a:t>KAN İSTASYONLARI</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melikte kan merkezi ve kan istasyonu tanımları yapılmıştır.</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Kan merkezi</a:t>
            </a:r>
            <a:r>
              <a:rPr b="1" lang="tr-TR" sz="2800" spc="-1" strike="noStrike">
                <a:solidFill>
                  <a:srgbClr val="000000"/>
                </a:solidFill>
                <a:latin typeface="Arial"/>
              </a:rPr>
              <a:t> tıbbi tedavi ve araştırmalarda kullanmak üzere kanın alındığı, laboratuvar testlerinin uygulandığı, muhafaza ve dağıtımının yapıldığı, kan ürünlerinin üretildiği kuruluşlar.</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Kan istasyonları</a:t>
            </a:r>
            <a:r>
              <a:rPr b="1" lang="tr-TR" sz="2800" spc="-1" strike="noStrike">
                <a:solidFill>
                  <a:srgbClr val="000000"/>
                </a:solidFill>
                <a:latin typeface="Arial"/>
              </a:rPr>
              <a:t> ihtiyacını esas olarak belli kan merkezlerinden sağlayan ancak gerekirse kan alıp testlerini yapan ve elindeki fazla kanı en yakın kan merkezine yollayan daha küçük kuruluş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AN MERKEZLERİNİN TİPLERİ</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merkezleri </a:t>
            </a:r>
            <a:r>
              <a:rPr b="1" lang="tr-TR" sz="2800" spc="-1" strike="noStrike" u="sng">
                <a:solidFill>
                  <a:srgbClr val="000000"/>
                </a:solidFill>
                <a:uFillTx/>
                <a:latin typeface="Arial"/>
              </a:rPr>
              <a:t>A ve B tipi</a:t>
            </a:r>
            <a:r>
              <a:rPr b="1" lang="tr-TR" sz="2800" spc="-1" strike="noStrike">
                <a:solidFill>
                  <a:srgbClr val="000000"/>
                </a:solidFill>
                <a:latin typeface="Arial"/>
              </a:rPr>
              <a:t> olmak üzere iki ayrı yapı şeklindedi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A tipi kan merkezleri</a:t>
            </a:r>
            <a:r>
              <a:rPr b="1" lang="tr-TR" sz="2800" spc="-1" strike="noStrike">
                <a:solidFill>
                  <a:srgbClr val="000000"/>
                </a:solidFill>
                <a:latin typeface="Arial"/>
              </a:rPr>
              <a:t> kan alımı ve dağıtımının yanısıra test serumlarının hazırlanması ve kan ürünleri üretimi yapılan üniteler olarak tarif edilmektedi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B tipi kan merkezi</a:t>
            </a:r>
            <a:r>
              <a:rPr b="1" lang="tr-TR" sz="2800" spc="-1" strike="noStrike">
                <a:solidFill>
                  <a:srgbClr val="000000"/>
                </a:solidFill>
                <a:latin typeface="Arial"/>
              </a:rPr>
              <a:t> daha küçük kapasitenin yanında test serumu üretimi yapılmaması ile A tipinden ayrılmaktadı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Uzun yıllar kamu hastanelerindeki üniteler kan istasyonu durumunda işlev yapmışt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PERSONE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Müdür:</a:t>
            </a:r>
            <a:r>
              <a:rPr b="1" lang="tr-TR" sz="2800" spc="-1" strike="noStrike">
                <a:solidFill>
                  <a:srgbClr val="000000"/>
                </a:solidFill>
                <a:latin typeface="Arial"/>
              </a:rPr>
              <a:t> Kan transfüzyonu alanında en az bir yıl deneyimi olan hekim veya uzman heki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Laboratuvar uzmanı:</a:t>
            </a:r>
            <a:r>
              <a:rPr b="1" lang="tr-TR" sz="2800" spc="-1" strike="noStrike">
                <a:solidFill>
                  <a:srgbClr val="000000"/>
                </a:solidFill>
                <a:latin typeface="Arial"/>
              </a:rPr>
              <a:t> Kan transfüzyonu serolojisinde en az bir yıl deneyimi olan uzman heki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0000"/>
                </a:solidFill>
                <a:uFillTx/>
                <a:latin typeface="Arial"/>
              </a:rPr>
              <a:t>Gezici ekip hekimi:</a:t>
            </a:r>
            <a:r>
              <a:rPr b="1" lang="tr-TR" sz="2800" spc="-1" strike="noStrike">
                <a:solidFill>
                  <a:srgbClr val="000000"/>
                </a:solidFill>
                <a:latin typeface="Arial"/>
              </a:rPr>
              <a:t> Kan transfüzyonu konusunda eğitilmiş hekim veya uzman heki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iğer perso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BİRİMLER</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meliğin 13 ve 14.maddelerinde ayrıntılı olarak tanımlan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bul salonu, kan alma salonu, kan grup tayin laboratuvarı, bakteriyoloji laboratuvarı, araştırma laboratuvarı, yıkama ve sterilizasyon, soğuk oda, malzeme deposu, arşiv, büro kısımlar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let ve donanı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ÇALIŞMA USUL VE ESASLARI</a:t>
            </a:r>
            <a:endParaRPr b="0" lang="en-US" sz="4000" spc="-1" strike="noStrike">
              <a:solidFill>
                <a:srgbClr val="000000"/>
              </a:solidFill>
              <a:latin typeface="Arial"/>
            </a:endParaRPr>
          </a:p>
        </p:txBody>
      </p:sp>
      <p:sp>
        <p:nvSpPr>
          <p:cNvPr id="124" name="PlaceHolder 2"/>
          <p:cNvSpPr>
            <a:spLocks noGrp="1"/>
          </p:cNvSpPr>
          <p:nvPr>
            <p:ph/>
          </p:nvPr>
        </p:nvSpPr>
        <p:spPr>
          <a:xfrm>
            <a:off x="323640" y="1052640"/>
            <a:ext cx="8569080" cy="47685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t>
            </a:r>
            <a:r>
              <a:rPr b="1" lang="tr-TR" sz="2800" spc="-1" strike="noStrike">
                <a:solidFill>
                  <a:srgbClr val="000000"/>
                </a:solidFill>
                <a:latin typeface="Arial"/>
              </a:rPr>
              <a:t>24 saat hizmet vermek zorunda olan kan merkezlerinde kan alma ve laboratuvar hizmetleri kesintisiz çalışmak durumundadır” denmekte ancak “transfüzyonun kan merkezinin esas görevi olmadığı” belirtilmektedi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merkezleri yeterli stokla çalışmak ve acil durumlarda uygulanması zorunlu testlerle ilgili önlemini almış olmak durumundadı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merkezleri kendi kurumlarında kan kullanımını rasyonel hale getirmek için girişimlerde bulunmalı, hastane yönetimi ile işbirliği yapmal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836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utulması gerekli kayıt, fiş ve etiket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verilmesinde ve kan vericilerinde aranan sağlık şartlar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alındıktan sonra dikkat edilmesi gereken hususl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lınan kanlarda yapılması gereken test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DONÖR TARAMA TESTLERİ VE DONÖR SEÇİMİ</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ve kan ürünleri yönetmeliği’nin 21.maddesinde donör (kan bağışçısı) seçme kriterleri 23.maddesinde ise uygulanacak tarama testleri yer almaktad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Uygulanması zorunlu testler; sifilize yönelik olarak VDRL, hepatit B enfeksiyonuna yönelik olarak HBsAg ve sıtma paraziti aranması olarak belirtilmiş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BAZI GENELGELER</a:t>
            </a:r>
            <a:endParaRPr b="0" lang="en-US" sz="4000" spc="-1" strike="noStrike">
              <a:solidFill>
                <a:srgbClr val="000000"/>
              </a:solidFill>
              <a:latin typeface="Arial"/>
            </a:endParaRPr>
          </a:p>
        </p:txBody>
      </p:sp>
      <p:sp>
        <p:nvSpPr>
          <p:cNvPr id="129" name="PlaceHolder 2"/>
          <p:cNvSpPr>
            <a:spLocks noGrp="1"/>
          </p:cNvSpPr>
          <p:nvPr>
            <p:ph/>
          </p:nvPr>
        </p:nvSpPr>
        <p:spPr>
          <a:xfrm>
            <a:off x="457200" y="1294920"/>
            <a:ext cx="8229600" cy="487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83’de AIDS hastalığı konusunda bilgi veren bir genelge ile etkeni bilinmediğinden tarama testi bulunmadığı, gönüllü bağışçıdan kan alınmasının önemi belirtilmiş; sebebi bilinmeyen ateş, gece terlemesi, kilo kaybı, ishal, halsizlik ve jeneralize lenfadenopatisi olan kişilerin bağışçı olmak istediklerinde red edilmesi istenmiş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85’de AIDS ihbarı zorunlu hastalıklar kapsamına alınmışt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BAZI GENELGELER</a:t>
            </a:r>
            <a:endParaRPr b="0" lang="en-US" sz="4000" spc="-1" strike="noStrike">
              <a:solidFill>
                <a:srgbClr val="000000"/>
              </a:solidFill>
              <a:latin typeface="Arial"/>
            </a:endParaRPr>
          </a:p>
        </p:txBody>
      </p:sp>
      <p:sp>
        <p:nvSpPr>
          <p:cNvPr id="13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5’de AIDS şüpheli ve riskli kişilerde tetkik yapılması konusunda sağlık kuruluşlarına yetki veril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7’de kan merkezlerinin, tüm bağışçılardan alınan kanların AIDS yönünden taranmasına yönelik ELISA testi yapacak şekilde donatılması zorunlu kılınmış</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6’da zorunlu testler kapsamına hepatit C tespitine yönelik anti-HCV dahil edilmiş</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BAZI GENELGELER</a:t>
            </a:r>
            <a:endParaRPr b="0" lang="en-US" sz="4000" spc="-1" strike="noStrike">
              <a:solidFill>
                <a:srgbClr val="000000"/>
              </a:solidFill>
              <a:latin typeface="Arial"/>
            </a:endParaRPr>
          </a:p>
        </p:txBody>
      </p:sp>
      <p:sp>
        <p:nvSpPr>
          <p:cNvPr id="133" name="PlaceHolder 2"/>
          <p:cNvSpPr>
            <a:spLocks noGrp="1"/>
          </p:cNvSpPr>
          <p:nvPr>
            <p:ph/>
          </p:nvPr>
        </p:nvSpPr>
        <p:spPr>
          <a:xfrm>
            <a:off x="324000" y="1267920"/>
            <a:ext cx="8362800" cy="508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96’da acil transfüzyon gerektiği durumlarda kullanılmak üzere hızlı tarama test kitlerinin kan merkezlerinde bulundurulması zorunluluğ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97’de bağışçı bilgi formu ve değerlendirme anahtarı güncelleştirilmi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97’de sıtma yönünden risk taşımayan bağışçılarda rutin sıtma paraziti taraması uygulamadan kaldırılmışt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MAÇLAR-2</a:t>
            </a:r>
            <a:endParaRPr b="0" lang="en-US" sz="4000" spc="-1" strike="noStrike">
              <a:solidFill>
                <a:srgbClr val="000000"/>
              </a:solidFill>
              <a:latin typeface="Arial"/>
            </a:endParaRPr>
          </a:p>
        </p:txBody>
      </p:sp>
      <p:sp>
        <p:nvSpPr>
          <p:cNvPr id="48" name="PlaceHolder 2"/>
          <p:cNvSpPr>
            <a:spLocks noGrp="1"/>
          </p:cNvSpPr>
          <p:nvPr>
            <p:ph/>
          </p:nvPr>
        </p:nvSpPr>
        <p:spPr>
          <a:xfrm>
            <a:off x="178920" y="1600200"/>
            <a:ext cx="871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şlemlerin eğitimli personel gözetiminde, toplam kalite yönetimi anlayışında, oluşturulan politika çerçevesinde uygulanmasıd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üzyon tıbbında araştırma ve geliştirme kaynaklarının bulunması ve yönlendirme planlarının yapılmasıd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ÖRÜŞ: </a:t>
            </a:r>
            <a:r>
              <a:rPr b="1" lang="en-US" sz="2800" spc="-1" strike="noStrike">
                <a:solidFill>
                  <a:srgbClr val="000000"/>
                </a:solidFill>
                <a:latin typeface="Arial"/>
              </a:rPr>
              <a:t>Kan bankacılığı işlemlerinin devletin denetiminde, Sağlık Bakanlığı, Üniversiteler, Kızılay ve konuyla ilgili Sivil Toplum Örgütleri tarafından yürütülmesinin sağlanmas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YÖNETMELİK DİĞER MADDE BAŞLIKLARI</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am kanın taşıması gerekli nitelik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ın özellikler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gruplarının tayin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ın alınmas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ın muhafazas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koagülanın niteliğ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alma şişesi ve plastik kan alma torbalarının nitelikler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alma ve verme setlerinin nitelikler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şişelerinin ve torbalarının etiketlenmes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ın taşınmas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ın temin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temininde gerekli tedbir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israfının önlenmesi</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kullanımı</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ğitim</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merkezlerinin idari ve teknik denetimleri</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Ücretlerin tespiti</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ürünleri üretim faaliyetleri</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ürünleri üretim laboratuvarları kurulması ve işletmeye açılması</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aşvurma ve gerekli belgeler</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İstisna</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Sorumluluk</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Nakil</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ulundurulması zorunlu personel</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Kan ürünleri üretim laboratuvarında bulunması gerekli birimler, araç ve gereçler</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netim-Yürürlükten kaldırma-Yürürlük-Yürüt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LİŞMEKTE OLAN ÜLKELERDE SORUNLAR</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lusal kan politikasının belirlenmemiş olmas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sal düzenlemeler, organizasyon şemaları, ulusal kuruluşlarda eksiklik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n bağışçısı temininde güçlük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ınırlı ekonomik kaynak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ersiz altyap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ÇÖZÜMLER</a:t>
            </a:r>
            <a:endParaRPr b="0" lang="en-US" sz="4000" spc="-1" strike="noStrike">
              <a:solidFill>
                <a:srgbClr val="000000"/>
              </a:solidFill>
              <a:latin typeface="Arial"/>
            </a:endParaRPr>
          </a:p>
        </p:txBody>
      </p:sp>
      <p:sp>
        <p:nvSpPr>
          <p:cNvPr id="52" name="PlaceHolder 2"/>
          <p:cNvSpPr>
            <a:spLocks noGrp="1"/>
          </p:cNvSpPr>
          <p:nvPr>
            <p:ph/>
          </p:nvPr>
        </p:nvSpPr>
        <p:spPr>
          <a:xfrm>
            <a:off x="178920" y="1197000"/>
            <a:ext cx="8713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Ulusal kan politikası belirlenmeli; yeterli kaynak sağlanmalı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Ülkenin kan ihtiyacı, bölgelerin yıllık kullandıkları kan komponenti tipleri ve miktarları, acil kan ihtiyacı ve bölgedeki kan merkezi oluşumlarına göre ulusal programlama yapılmalı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ynakların kurumsal kan programı çerçevesinde daha etkin kullanımı sağlanmalı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AN MERKEZLERİNİN ORGANİZASYONU</a:t>
            </a:r>
            <a:endParaRPr b="0" lang="en-US" sz="4000" spc="-1" strike="noStrike">
              <a:solidFill>
                <a:srgbClr val="000000"/>
              </a:solidFill>
              <a:latin typeface="Arial"/>
            </a:endParaRPr>
          </a:p>
        </p:txBody>
      </p:sp>
      <p:sp>
        <p:nvSpPr>
          <p:cNvPr id="54" name="PlaceHolder 2"/>
          <p:cNvSpPr>
            <a:spLocks noGrp="1"/>
          </p:cNvSpPr>
          <p:nvPr>
            <p:ph/>
          </p:nvPr>
        </p:nvSpPr>
        <p:spPr>
          <a:xfrm>
            <a:off x="324000" y="1413000"/>
            <a:ext cx="84960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rkezi:</a:t>
            </a:r>
            <a:r>
              <a:rPr b="1" lang="en-US" sz="2400" spc="-1" strike="noStrike">
                <a:solidFill>
                  <a:srgbClr val="000000"/>
                </a:solidFill>
                <a:latin typeface="Arial"/>
              </a:rPr>
              <a:t> Ulusal bir kan kuruluşu, bağlantılı bölgesel kan merkezleri ile tüm ülkenin kan ihtiyacını karşılar (Finlandiya, İrlanda, Jamaika, Lüksemburg, Nikaragu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ölgesel:</a:t>
            </a:r>
            <a:r>
              <a:rPr b="1" lang="en-US" sz="2400" spc="-1" strike="noStrike">
                <a:solidFill>
                  <a:srgbClr val="000000"/>
                </a:solidFill>
                <a:latin typeface="Arial"/>
              </a:rPr>
              <a:t> Ülke bölgelere ayrılır; ulusal kuruluşun kontrol ve koordinasyonu ile değişen derecelerde otonomisi olan bölge kan merkezleri (Avustralya, Fransa, İngiltere, Kanada, Hollanda, İsviçr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astane kan merkezli</a:t>
            </a:r>
            <a:r>
              <a:rPr b="1" lang="en-US" sz="2400" spc="-1" strike="noStrike">
                <a:solidFill>
                  <a:srgbClr val="000000"/>
                </a:solidFill>
                <a:latin typeface="Arial"/>
              </a:rPr>
              <a:t>: Her hastane, kan toplama ve transfüzyon programını belirler (Danimarka, Çek Cum, İsveç)</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arışık:</a:t>
            </a:r>
            <a:r>
              <a:rPr b="1" lang="en-US" sz="2400" spc="-1" strike="noStrike">
                <a:solidFill>
                  <a:srgbClr val="000000"/>
                </a:solidFill>
                <a:latin typeface="Arial"/>
              </a:rPr>
              <a:t> Hastane ve kan toplama merkezli (ABD, Tayland, Alman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ÖLGESEL KAN MERKEZİ</a:t>
            </a:r>
            <a:endParaRPr b="0" lang="en-US" sz="4000" spc="-1" strike="noStrike">
              <a:solidFill>
                <a:srgbClr val="000000"/>
              </a:solidFill>
              <a:latin typeface="Arial"/>
            </a:endParaRPr>
          </a:p>
        </p:txBody>
      </p:sp>
      <p:sp>
        <p:nvSpPr>
          <p:cNvPr id="5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n bağışçısı kazanım ve eğitim programları ile temin ettiği gönüllü kan bağışçılarından aldığı tam kan bağışlarını hastaların ihtiyacı olan kan komponentleri halinde sorumluluk alanı içindeki kan merkezleri ve kan istasyonlarına gönder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ölgesel kan merkezleri ile hastane kan merkezleri (hastane transfüzyon merkezleri) arasında 24 saat taşıma sağlanmalı; sistem merkezden kontrol edilmelid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5T09:48:16Z</dcterms:created>
  <dc:creator>ADMİN</dc:creator>
  <dc:description/>
  <dc:language>en-US</dc:language>
  <cp:lastModifiedBy>DELL</cp:lastModifiedBy>
  <dcterms:modified xsi:type="dcterms:W3CDTF">2006-10-20T15:40:10Z</dcterms:modified>
  <cp:revision>33</cp:revision>
  <dc:subject/>
  <dc:title>GAZİ ÜNİVERSİTESİ TIP FAKÜLTESİ</dc:title>
</cp:coreProperties>
</file>