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612-B3F4-4B3C-8D92-7E9E4BF1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5D2-F00E-4319-898C-C8372ADC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B8A-3DCA-46B9-849A-79BB1215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951-1B47-4684-8E3A-71C83ED8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3E9-DFF3-4B68-B35E-2DAD7364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4BA-5223-4F76-A383-68E8EA09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8AD-50EE-4020-B3CC-C27DB0F2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ECB-AEBE-4530-881B-4777B259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3C3-6319-4BBF-A1AE-E1D99921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C58-2502-4BBD-8766-E092EE88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DDF-43C5-49EF-88FF-F6DF97D5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FF7-46EA-4182-B588-0E2F87EE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0E1D-6BA9-4091-9F39-8A3D5AE13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AN MERKEZİN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ALİTE YÖNETİM SİSTEM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LAMA EKİB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tenin geliştirilmesi için çalış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önetici tarafından görevlendirilmiş bir grup çalışan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hangi bir düzeyde veya ünitede görevli olabili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leri anlamalıdır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Çözüm oluşturabilmelidi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94000" y="274320"/>
            <a:ext cx="719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LİTE HEDEFLER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tı kriterler değil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linisyenlerin beklentileri farklılık göste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merkezinin durumuna göre farklılık göste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deflerin yerine getirilmesi için kan merkezi kalite güvencesi programına sahip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u program kan merkezindeki her şeyi ve her kişiyi kap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13000" y="274320"/>
            <a:ext cx="726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LİTE GÜVENCESİNİ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MEL ELEMAN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stlen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ynak sağ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knik yeterli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knik prosedü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çözüm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ÜSTLEN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te hedefleri yönetim tarafından benimsenmeli ve desteklen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İTE KONTROL (QC) EKİBİ veya KALİTE KONTROL (QC) SORUMLUSU doğrudan yönetime bağlı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KAYNAK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te hedefleri için şartt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önetim tarafından yeterli kaynak temini sağl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kan, materyal, ekipman, eleman, bütç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TEKNİK YETERLİLİ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 uygun düzeyde bilgi ve beceriye sahip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zmetin gerektirdiği eğitim almış personel çalıştır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zmet içi eğitim ile personelin bilgi düzeyleri geliştirilmeli ve güncellen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TEKNİK PROSEDÜR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675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426600" indent="-426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eanalitik Durum ve Değişkenlerin Kontrol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alitik Değişken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ite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9440" y="27432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PROBLEM ÇÖZÜM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in tanımlanması ve çözümünde tüm adımlar belirlenmiş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bir yöntem veya cihazla ilgili o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hazlar için dokümantas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olası sorun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çözüm yol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ırlanmış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hazların periyodik bakım programları yapılmış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ler eğitilmiş personel tarafından çözümlen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6280" y="350640"/>
            <a:ext cx="653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LİTE PİRAMİD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önetim politikalarının (MP) hazırlanmas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Kalite El Kitab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lite işlem listesi ve prosedürleri ( Q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ik görev akış rehberi (G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hberler ve kalite kontrol dokümanları ( S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47242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35002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234936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P-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6920" y="24919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tandart Opera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tandart İşletim Prosedür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PLAM KALİTE YÖNETİMİ (TQM)-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4680" indent="-327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r kuruluştaki tüm faaliyetlerin sürekli olarak iyileştirilm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4680" indent="-327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r organizasyonda görevli tüm çalışanların çalışmalara aktif katılımı 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4680" indent="-327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Çalışanların, hizmeti satın alanların ve toplumun memnuniyetini sağlayarak karlılığın oluşturulması işlemlerinin tüm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P-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te standartlarını başarma yollarını gösteren ve kalite sisteminin etkinliğini sağlayan temel doküman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pılan her iş SOP hazırlanması yani yönetim tarafından yazılı direktifler oluşturulması için uygund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61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P-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413000"/>
            <a:ext cx="80010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4572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işlem için; kim, ne, niçin, ne zaman, nasıl sorularının yanıtları tüm personel tarafından bili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r işlem, tüm personel tarafından ve her zaman aynı şekilde yap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 hazırlanmasında yardımcı olduğu direktifleri daha kolay uy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6535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P-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5200" indent="-4572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lar, defterler ve bilgisayar kayıtları doğru şekilde düzenlen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4572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P varlığında hizmet içi eğitim hızlanır ve başarı olasılığı ar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45720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sal sorunlarda yürütülen işleri yazılı ve detaylı olarak anlatan bir dokümanın varlığı tüm personel için koruyucud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P-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önetimi kolaylaştır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 değişiminde (rotasyon, tatil, vb) kaos yaşan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ğitilmiş personel olmaması durumunda kaos yaşan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zaman aynı performansta hizmet alın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080" y="350640"/>
            <a:ext cx="7504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P HAZIRLANMAS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 merkezinde görevli yönetici ve yardımcı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yonel yazar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afından hazırlan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ESYONEL YA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9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şletmenin yapısına, personel özelliklerine ve işin niteliğine tam hakim olmay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P sürekli gözden geçirilmeli ve güncelleştirilmelidir (bir kez hazırlanan, durağan bir metin değild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zara duyulan ihtiyaç süreklidir ve bu konu için bütçeden sürekli kaynak ayrılması gerek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P HAZIRLAYAN PERSON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 merkezini iyi  tanımalı ve işlemlerin nasıl yürüdüğünü bil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mer konusunda uzman olmasa da Türkçe'yi iyi bilmeli ve kullan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ka, prosedür ve görev talimatını nasıl ayırt edeceğini ve her birinin yazımı ile ilgili kuralları iyi b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5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391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t bir üslup ile yazılmışt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pleks bir doküman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zan kişi görevin ve çalışma ortamının niteliklerini iyi b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k kişi tarafından hazırlanma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A görevl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lgili birim sorumlu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şlemi yapan ki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P hazırlanmasına kat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67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İTİ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137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Çalışanları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yi yapıp neyi yapamayacaklarını açıklayan yönetim direktifler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SEDÜ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77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min, neyi, ne zaman yapacağını tanımlayan kronolojik direktifler listesid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dür İKİ veya DAHA FAZLA sayıda kişi için hazırlan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484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Çalışa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e aktif katıl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mliliğin artması ve işin geliştirilmesi için düşünen ve becerilerini sisteme katan bir tarz ile çalışır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İR İŞİ EN İYİ O İŞİ YAPAN BİLİ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önetic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ılımın sağlanmasını teşvik 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çalışanlara inisiyatif ve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nilikleri destek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94920" y="40428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PLAM KALİTE YÖNETİMİ (TQM)-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ÖREV TALİM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90560" y="206064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İR KİŞİYE bir eylemin veya birbirleri ile ilişkili bir seri eylemin nasıl yapılacağını anlatan doküman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1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İKAL VE TEKNİK SOP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2133360"/>
            <a:ext cx="758376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şlemi açıklayan kısa baş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ımlayıcı num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lk hazırlanma tari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zyon tari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dürün amac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020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İKAL VE TEKNİK SOP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şlemin bilimsel prensibi ve uygulama alan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şlemi yapmasına izin verilen personel  ve sorumluluğ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netim yapacak personelin niteliği ve sorumluluk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şlemde kullanılan reagen, kit ve malzemelerin özellikleri, gerekli ise hazırlanma yönt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099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İKAL VE TEKNİK SOP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8880" indent="-7588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gen ve ekipmanın önerilen kullanım şekil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8880" indent="-7588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şlem basamak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8880" indent="-7588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ite kontrol işleml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8880" indent="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(internal ve eksternal Q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8880" indent="-7588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nuçların irdelenmesi, rapor edilmesi ve onaylan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8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34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İKAL VE TEKNİK SOP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oblemle karşılaşılması durumunda yapılacak işlem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yoemniyet kural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rarlanılan kayna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ğıtım yapılacak uygulama kopya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N MERKEZİ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Ç ADET SOP HAZIRLAMALIDI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7280" y="2708280"/>
            <a:ext cx="6782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t bir yanıt yo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 Etkenl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şlem kapasi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P UYGULAMASI BAŞLADIĞI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Çalışanla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P okumak için, o işi yapmak için gereken zamandan fazlasını harcıyorlar 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üç anlıyorlar ve işler zamanında bitmiyor 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nlış fikir ediniyor ve hatalı uygulamalar yapıyor 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çbir şey anlamıyor ve hiçbir şey yapmıyorlar 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IRLANAN SOP KÖTÜDÜ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MAN BOŞA GİTMİŞTİ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 KOP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P’ler iki kopya hazırlan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r birime ve her kişiye sadece GEREKLİ olanlar dağıtıl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P'de yer alan politika, prosedür ve görev talimatlarının tümünün bulunduğu kopyaya ANA KOPYA d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a kopya, yöneticide ve her büyük ünite veya bölümde bulunma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35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YGULAMA KOPY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m tarafından kullanılacaksa onun için düzenlenmiş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knisyene verilecek kopya sadece onu ilgilendiren bölümleri içer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ygulama kopyalarının düzenlenme işini “SOP UYGULAMA YÖNETİCİSİ” yürüt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AYLANMIŞ KOP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ci tarafından onaylanıp imzalan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ersonel SOP'u okuduktan sonra, yazılı tüm direktiflerden haberdar olduğunu ve uygulayacağını belirtmek için prosedürü imz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u kopya yönetici tarafından muhafaza ed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411200" y="3359160"/>
          <a:ext cx="632484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3359160"/>
                    <a:ext cx="63248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901800" y="1917720"/>
          <a:ext cx="7213680" cy="40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1917720"/>
                    <a:ext cx="7213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PLAM KALİTE YÖNETİMİ (TQM)-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1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KNİK BECER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557360"/>
            <a:ext cx="8839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lin nitelikleri ve çalışma tarzı, test sonuçlarını etk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ygun eğitim almış olmak yeterli değil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r uzman yanında deneyim kazanı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gi ve çalışma becerisinin aynı düzeyde korunması için periyodik hizmet içi eğitim şartt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38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KNİK BECERİNİN İZLENMES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eriyodik kontrol güç ol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linmeyen bir örnekle çalıştırma ve karar aşamasında iz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astgele seçilmiş örneklerin izlen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ternal ve eksternal kalite kontrol sonuç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ite ölçüm formu veril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P bilgi düzeyinin tespiti için test sınav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Lİ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2708280"/>
            <a:ext cx="7239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ÜŞTERİ ihtiyaçlarına ve beklentilerine uygunl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ÜŞTERİ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38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 Merkezleri İçi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ktor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mşir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t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ta yakı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ğlık giderlerini karşılayan kişi ve kuru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43280" y="1989000"/>
            <a:ext cx="3581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P (Kalite Planlaması)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429000"/>
            <a:ext cx="39625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 Narrow"/>
              </a:rPr>
              <a:t>Q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 Narrow"/>
              </a:rPr>
              <a:t>( Laboratuvar İşlemlerinde Kal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81280"/>
            <a:ext cx="4114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I (Kalitenin Geliştirilme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5029200"/>
            <a:ext cx="3124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C ( Kalite Kontro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5029200"/>
            <a:ext cx="3048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A ( Kalite Ölçümü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34480" y="5025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66688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4197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7650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KALİTEYİ SAĞLAYAN UNSUR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r işletmede problemler, hatalı insanlardan çok hatalı işlemlerden kaynaklanı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 85  yönetici tarafından çözümlenebilecek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ŞLEM SORUN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 15  çalışanları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TERSİZ PERFORMA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53341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1800" y="476280"/>
            <a:ext cx="251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BLEM-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000" y="270828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te Problemleri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ÖNETİM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LERİDİ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306864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7800" y="836640"/>
            <a:ext cx="26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BLEM-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3:26:10Z</dcterms:created>
  <dc:creator>esra karakoç</dc:creator>
  <dc:description/>
  <dc:language>en-US</dc:language>
  <cp:lastModifiedBy>DELL</cp:lastModifiedBy>
  <dcterms:modified xsi:type="dcterms:W3CDTF">2006-10-18T05:07:54Z</dcterms:modified>
  <cp:revision>10</cp:revision>
  <dc:subject/>
  <dc:title>KAN MERKEZİNDE KALİTE YÖNETİM SİSTEMİ</dc:title>
</cp:coreProperties>
</file>