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7D8-FE40-483C-9BC8-3680A05A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26C-5C6C-4638-8215-2EAB02A5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477-509A-4D24-9F84-EB35D149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CF7-ADDE-46EA-9B3F-9CE821C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878-CCC0-4616-A42A-2D78E70C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AC8-416E-4535-9792-5815482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546-4A72-4583-BC14-DB4F721F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371-7146-4D1E-9DF5-7A74D8B8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416-3CF4-4B4E-8107-43150C0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126-D39B-43F8-9558-8C1B74F1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A92-3E9B-4BF9-8273-2E1198E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77A-EE6F-40AE-99B8-1C8435F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363-2470-47AA-BA24-4BFE807E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ÜZYON ENDİKASYONLA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İF TRANSFÜZ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MA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olüm kaybının düzelt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stazın sağlan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ksijen taşıma kapasitesinin düzelt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tabolik bozuklukların düzeltil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lazma onkotik basıncının düzelt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79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İF TRANSFÜZYONDA UYGULAMALAR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istalloid sıvı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oid sıvı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Albu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Dekst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Hidroksi etil starch (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İF TRANSFÜZYONDA UYGULAMALAR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(En çok 4 günlü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4 üniteden fazla verilecekse mikroagregat filtreleri kulla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Sitrat  nötralize edilmelidir (Ca glukon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Kan bileşeni ısıt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10 üniteden fazla verilmiş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Koagülasyon fonksiyonları tar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Trombosit sayımı kontrol 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amalı hastaya artarda 4 ünite eritrosit süspansiyonu ve sıvı verilmesine rağmen hastanın hemodinamik dengesi stabil hale gelmiyorsa</a:t>
            </a:r>
            <a:br>
              <a:rPr sz="2800"/>
            </a:b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hipotansiyon, ortostatik hipotansiyon, taşikardi, periferik soğukluk, idrar hacminde azalma gözleniyorsa)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AM KAN TRANSFÜZYONUN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gerek vardır</a:t>
            </a:r>
            <a:br>
              <a:rPr sz="2800"/>
            </a:b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aybı, total kan hacminin %25-30'unu geçmişse tam kan transfüzyonu endikasyonu doğ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4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M KAN TRANSFÜZYONU ÖZEL DURUM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if transfüzyonlarda maksimum 4 günl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 transfüzyonlarda maksimum 7 günl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m kan kullanımı önerilmekt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M KAN KULLANMA ORANI ORTALAMA %3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ÜLKEMİZDE BU ORAN %30’LARDAD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2452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AMASI DEVAM ETMEYEN BİR ERİŞKİNDE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R ÜNİTE TAM K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91440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Hematokriti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% 3 -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Hemoglobini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1-1,5g / dl 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artır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ksijen taşıma kapasitesinde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emptomatik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şme varsa eritrosit süspansiyonu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oz ve İnfüzyon hız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linik duruma göre değişir. 1 ünite 2-3 saatte verilir. Normal erişkinde 1 ünite eritrosit süspansiyonu transfüzyonu, hemoglobini 1-1,5 g/dl ve Htc’i %3-5 artır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NDİKASYON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 ENDİKASYON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eminin hipoksiye bağlı, acil tedavi gerektiren semptomlarının ortaya çıkması durumunda eritrosit süspansiyonu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orgunlu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ukl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ısa ve sık solum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şik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nkop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p yetmez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gina pekoris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ebral hipoksi belirt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895480"/>
            <a:ext cx="5867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1798560"/>
            <a:ext cx="8915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anemilerde hastalar; 7-8 g/dl Hb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ğerini tolere edebilir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zı durumlarda: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unum yetmezliğ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roner arter hastalığı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ebrovasküler hastalık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-ağır derecede kalp yetmezliği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şlılarda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globin değeri yüksek de olsa eritrosit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una gerek duyulabilir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51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 ENDİKASYONLARI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 NEDEN YAPIL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hacmini sağla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kulara oksijen taşınmasını sağl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ama ve koagülasyon bozukluklarını düzelt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münolojik eksikliği gidermek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kliniği uygu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nem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atinik (demir eksikliği, vitamin B12 ve/veya folik asit yetmezliğine bağlı anemilerdeki gibi) ya 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ik iliğinde eritropoezi uyaran ilaçlarla (eritropoiet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davi edilebiliyor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yapıl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51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 ENDİKASYONLARI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poplastik anem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plastik anem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emoterapi sonrası kemik iliğinin baskılandığı h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yelodisplastik send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aroksismal nokturnal hemoglobinü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mmünolojik nedenli olmayan kazanılmış hemolitik anem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onjenital hemolitik anemiler (Talasemi, orak hücreli anemi, eritrosit enzim bozuklukları, eritrosit membran bozukluklar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ritropoietin tedavisine yanıt vermeyen kronik böbrek hastalık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1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 ENDİKASYONLARI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IKANMIŞ ERİTR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a bağlı aşağıdaki reaksiyonlar görüldüğün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t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lerjik reaksiy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aflaktik reaksiy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ökositi azaltmak amacıyla (%98 etkili) başka yöntem kullanılamıyo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. Lökositlerin neden olduğu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litik Olmayan Ateşli Transfüzyon 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aksiyonunu (NHFTR) önlemek (en az 2 kez reaksiyon gelişirse mutlak endikasyond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den?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Önceki transfüzyonlara bağlı oluşur, Lenfositotoksinler, interleukinler, TNF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.  HLA alloimmünizasyonu engellemek (MHC-Class I ve II ile oluş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ÖKOSİTTEN FAKİ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. Transfüzyona bağlı enfeksiyon geçişini azaltmak (CMV, EBV, HTLV-I/II, Yersinia ve diğer bakteri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. Yenidoğanda immün değişiklik oluşturma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ÖKOSİTTEN FAKİ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dir rastlanan kan grup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tolog transfüz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MV (-) alıc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loantikor gelişmiş 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gan nakli yapılacak 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syal gereksinim (Askeri amaç, doğal afet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urumlarında kullanı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DURULMUŞ ERİTR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en hemen hiç kullanılmamakt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kombinant büyüme faktörlerinin 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kin antibiyotik ve immünglobulinlerin kullanımı bu ürünün transfüzyon ihtiyacını azaltmış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NÜLOSİT SÜSPANSİYONU ENDİKASYON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enidoğan sepsisi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solüt nötrofil sayısı 500/</a:t>
            </a:r>
            <a:r>
              <a:rPr b="1" lang="tr-T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’nin altında 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ntrol altına alınamayan ateş va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feksiyon etkeni gösterilememiş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biyotik tedavisine rağmen 48 saattir kontrol edilemeyen ateş var ve genel durum bozuluyo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granülomatöz hastalıklarda antibiyotik tedavisi yetersiz kalıyo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NÜLOSİT SÜSPANSİYONU ENDİKASYON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ope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ayısı &lt; 50.000/m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işlev bozukluğu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Kalıtsal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- Edi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.   Trombositopeni ve trombosit işlev bozukluğunun birlikte o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1920" y="1234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ayısı &gt; 50.000/mm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olan hastada kanama kontrolünde trombosit süspansiyonu başarısız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ama zamanı normalin 2 katından daha kısa olan hastada kanama kontrolünde trombosit süspansiyonu etkili olmayabil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1920" y="1234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hac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işki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 10 m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enidoğa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8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 10 m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itrosit hac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ke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5 m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dı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5 m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VE ERİTROSİT HAC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İLAKTİK TROMBOSİT SÜSPANSİYONU UYGULAMAS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atolojik maligniteli hastaların tedavileri sıras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plastik anemi, myelodisplastik sendrom gibi hastalıklarda destek tedavisi ola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rkezi sinir sistemine metastaz yapmış malign melanoma’da kanama riskini azaltmak amacıy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pirin alanlarda operasyon sırasında trombosit sayısı 50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L’den az 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oterapi alan hastada: t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ombosit fonksiyonu normal ve vasküler sorun olmadığında t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ombosit sayıs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&gt; 5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 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nama beklen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&lt; 5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 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aşamı tehdit eden kanam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&gt; 5-10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 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pontan kanama riski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0-50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 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errahi girişim varsa kanama ri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819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İLAKTİK TROMBOSİT SÜSPANSİYONU UYGULAMAS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emoterapi alan hastada trombosit sayıs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&lt; 5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 L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-10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 L ve ateş &gt; 38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ya yeni minör kanama va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-20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 L ve koagülasyon faktörü eksik veya heparin uygulanıyorsa, invazif girişim yapılacak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0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 L ve majör kanama veya majör cerrahi girişim gerekiyo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04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İLAKTİK TROMBOSİT SÜSPANSİYONU UYGULAMASI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işkinde trombosit artış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 Ü rand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5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/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 Ü aferez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0-50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L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eklenen yükselme yoksa alloimmünizasyondan şüphe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eklenen yükselme CCI (Corrected count increment) ile hesap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CI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transfüzyondan 1 saat ve 24 saat sonra değerlend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UNDAN YARARLANIM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bsolu trombosit artışı (tr/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CI =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 X BSA (m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nsfüze edilen trombosit sayısı (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SA: Vücut yüzey alan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bsolu trombosit artışı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nsfüzyon sonrası trombosit sayısı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nsfüzyon öncesi trombosit say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CI 1. Saat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 7.5-10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4. Saat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4.5-7.5x10</a:t>
            </a:r>
            <a:r>
              <a:rPr b="1" lang="tr-TR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-360" y="1234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UNDAN YARARLANIM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86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AGVHD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(Transfüzyonla İlişkili Graft Versus Host Hastalığı) 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/kg lenfosit ile oluşabilir. Bu hastalığı önlemek için ışınlanmış kan ürünü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Işınlam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137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klı özel cihazlarla yapılır 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500 – 3200 CGy gamma irradiasyon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nan 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itrosit süspansiyonu ise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8 gü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üspansiyonu ise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5 gün saklan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ONENTLERİN IŞINLANM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ik iliği transplantasyonu yapılan 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matüre, yenidoğan ünitesi hasta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ğır immün yetmezlikli hastalar (Kalıtsal–Akki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rauterin kan na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odgkin hastalı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LA uygun trombosit süspansiyonu transfüzyonu yapılan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28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INLAMA ENDİKAS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INLAMANIN YARARLI OLDUĞU DURUML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88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ut lösem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odgkin dışı lenfom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id organ nakli yapılan 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oğun kemoterapi veya radyoterapi ile bağışıklık sistemi baskılanmış solid tümörlü 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ZE DONMUŞ PLAZMA ENDİKASYON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pesifik faktör tedavisi yapılamadığında;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zole FII, FV, FVIII, FX ve FXI eksiklikleri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itamin K’ya bağımlı faktör (II, FVIII, FIX, FX)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ksikliği, Warfarin tedavisi alanlar, protein C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 protein S eksikliği olanlarda aktif kanama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arsa veya acil cerrahi girişim gerekiyor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sif transfüzyona bağlı düzeltilebilir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statik bozukluk var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trombin III eksikliği olanlarda tromboz nedeniyle heparin uygulanacak veya cerrahi girişim yapılac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C ve ağır karaciğer hastalığ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üt çocuklarında parenteral nutrisyonun başarısız olduğu protein kaybettiren enteropatiye bağlı immün yetmezliklerde immünglobulin replasmanı gerekiyo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TP’de plazma exchange iç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-152640" y="228600"/>
            <a:ext cx="9296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ZE DONMUŞ PLAZMA ENDİKASYON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AMA SEMPTOM VE BULGULARI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2193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bedilen Hacim (ml)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linik Bul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yrek olarak kan bağışçılarında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ülen vasovagal sen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stirahatle klinik bulgu olmayabilir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elki hafif postural hipotansiyon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gzersizle taşik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ibrinojen replasmanı gereken durumlarda (Hipofibrinojenemi, disfibrinojene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fili A  hastaları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on Willebrand hastalar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aktör XVIII eksikliği olanl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ibrin yapıştırıcı olar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RİYOPRESİPİTA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İKASYON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160020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OZ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lama 10 kg için 1 ünite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0 kg.lık erişkinde 10 ünite kriyopresipitat Fibrinojen’de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5 mg/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VIII’ de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30’luk artış sağ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RİYOPRESİPİTAT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ENDİKAS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AMA SEMPTOM VE BULGULARI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193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38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bedilen Hacim (ml)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linik Bul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stirahatte ve yatar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basıncı ve nabız normal,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stural hipotan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stirahatte ve yatarken bile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rdiak output ve kan basıncı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ormalden az, hava açlığı va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bız hızlı ve zayıf, cilt soğuk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 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AMA SEMPTOM VE BULGULARI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bedilen Hacim (ml)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linik Bul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aktik asidoz ve öl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ĞIR KAN KAYBI (&gt; 2000 ml) SONUÇ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öbrek kanlanmasında az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mpatik sistem aktivasy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p hızında ve kontraksiyonunda ar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roner dilatas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ri, kas ve barsaklarda vazokonstrük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dyum retansiyonu, ADH salınımında ar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aktik asit birik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erventilasyon ve respiratuvar alkal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ŞOK İNDEKSİ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KAYBININ HESAPLANM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bız (vuru/d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Şok İndeksi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stolik kan basıncı (mmH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Şok İndeksi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travasküler sıvı kayb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20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30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%40-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4382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648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791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İF KA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4 saat içinde, total kan hacmine eşit miktarda transfüzyonu gerektirecek miktarda k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4 saat içinde 10 üniteden fazla tam kan veya 20 üniteden fazla eritrosit süspansiyonu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 saatten daha az sürede kan hacminin %50’sinin kana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50 ml/dk ve üzerindeki k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06-10-17T15:17:3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