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6FE4-EC0C-47BD-BA0C-8FDAB0F55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48E4-FEC9-4339-A79A-973E5546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FC06-FF10-4350-A2BF-8FFFFF699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D2B6-6E24-496B-B943-F7019EBE0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7DCE-CCC4-4557-8E21-788D4C9F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53EC-0B42-4DC0-9E96-D04FFCFE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F739-E86A-44FA-9389-74205A09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385C-C258-416E-A7EE-D58DB259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D364-02D3-4FF1-A357-BC1299B7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373D-C7D1-407D-B3CB-EDD2480A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8539-C09D-4412-935A-89BF0FA0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9FD0-68F4-4893-9C21-7E9C76F7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7215-DCC8-49E3-AB07-936284B4F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KAN MERKEZLERİNDE KAYI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ayıt Hataları-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97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yıtlardaki aksilikler, yapılan hatalar ve düzeltmeler mutlaka görülebil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terde yapılan düzeltmeler tek çizgi ile üstü çizilerek yapıl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lgisayarda yapılan düzeltmeler değişiklik kaydı dosyasına kaydedilerek yapıl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ayıt Hataları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84582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taların oluşma sıklığı ve nedenleri ile ilgili bilgiler edinilebil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stem geliştirilerek benzer hataların tekrarlamaması sağlan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ayıtların Saklanması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5694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Yasal zaman aşımı kabul edilen 10 yıl boyunca saklan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yıtların Saklanma Ortamları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96320" indent="-110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efter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96320" indent="-110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ikrofişl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96320" indent="-110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ilgisayar diskl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96320" indent="-110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anyetik disket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aklanan kayıtlar atılmadan önce son kez gözden geçiril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28240" y="1268280"/>
            <a:ext cx="8915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klanan kayıtlara sadece yetkili kullanıcılar erişebil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yıtlarda bilgisayar kullananlar verilerinin yedeklerini al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lgisayar kullanımında ayrıca programın, veritabanının ve işletim sisteminin de yedekleri alın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lgisayar kullanımında virüs bulaşması veya diğer tehlikelere karşı alternatif yedekleme sistemleri geliştiril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ayıtların Saklanması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ayıtların Gizliliğ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ıbbi kayıtlardaki, donör ve hasta ile ilgili bilgiler gizli kabul ed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astaya ait bilgiler, tıbbi fayda sağlamak amacı dışında paylaşılamaz ve izinsiz olarak tartışılama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Pozitif tarama testi sonuçlarının rapor edileceği donöre söylen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l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8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 başlığınd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ngi amaçla kullanılacağı 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n merkezinin kimlik bilgileri bulun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elin kimliği formda yer al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lgisayar formları çoktan seçmeli sunul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280" y="40464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st Sonuçları ve Değerlendirilmes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est sonuçları ve bulgular ayrı ayrı kaydedil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Örneğ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n gruplama sonuçlarında hem forward hem de reverse reaksiyon sonuçları şiddetleri de belirtilerek ayrı ayrı kaydedil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nsfüzyon Reaksiyonları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628280"/>
            <a:ext cx="88390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Enfeksiyöz, serolojik uygunsuzluk, febril reaksiyonlar, ürtiker, bakteriyel kontaminasyona bağlı her tür durumda geri bildirimler veya oluşturulan raporlar kayıtlara geçiril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astaya Ait Kayıtlar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496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7524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boratuar Testlerinin Kayd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stanın adı ve protokol numaras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nı alan kişinin kodu veya adı soyad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in yapılış tari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apılan testin adı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 sonucu ve son değerlendir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Çapraz Karşılaştırma Testi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estin yapılış tari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astanın protokol numaras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n komponent numaras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astanın ABO ve Rh ti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ağışçının ABO ve Rh tip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omponentin ad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Çapraz karşılaştırma testinin sonucu ve değerlendirilm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astaya Ait Kayıtlar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AN MERKEZİNDE KAY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675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n merkezi bir kayıt sistemine sahip ol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azılı kayıt sistem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defterler, etiketler, forml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lgisayar ortam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n merkezinde tüm yapılanların kayıt altına alınması şartt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yıt sistemi tüm işlemlerle ilgili izlenebilirliği sağla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n İstem Formu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ıcının tam ad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sta protokol numaras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İstemi yapan doktorun adı ve kaş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ç ünite kan veya ürün gerektiğ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Ünitelerin ne kadar süre içinde gerekli olduğ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astaya Ait Kayıtlar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n Çıkış Form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38844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arih-sa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38844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am kan ve ürünün numaras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38844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avuzlanmış ürünlerde tüm numara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38844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astanın kan grubu (ABO-Rh) ile son bir yılda  yapılmış bir önceki kan grubu kıyaslamas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38844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astanın son 5 yıldaki kayıtlarının gözden geçirilerek varsa kan gruplama sırasında görülen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güçlükler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, klinik olarak önemli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alloantikorlar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ve şiddetli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transfüzyon reaksiyonlar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astaya Ait Kayıtlar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5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ransfüzyon Kayıtları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İmzalı rap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(ürün ve cross-match bilgilerinin alıcının kimliği ile karşılaştırılıp onaylandığına da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ransfüzyonun başlangıç ve bitiş saa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ransfüzyonu yapan kişinin kimliğ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Verilen mik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astanın transfüzyon süresince vital duru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astaya Ait Kayıtlar-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-360" y="112500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74480" indent="0" algn="just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4480" indent="0" algn="just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cil Transfüzyonlar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4480" indent="0" algn="just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3600" indent="-406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asta doktorunun testlerin yapılamadığını bildiğini ancak hastanın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HAYATİ TEHLİKE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nedeniyle bekleyebilecek zamanı olmadığını belirtir kan ist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3600" indent="-406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n komponenti üzerinde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“GEREKLİ TESTLER TAMAMLANAMAMIŞTIR”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etike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3600" indent="-406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n çıkış formunda cross-match işleminde antiglobulin fazının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yapılmadığına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dair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astaya Ait Kayıtlar-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ğışçıya Ait Kayıtlar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ğışçı Kaydı-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3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Ünitenin numaras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3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ğışçının adı, soyadı ve kimlik bilgil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3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r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3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efon numaras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3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ğum tarih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3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imlik numarası (TC kimlik 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3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ğış tarih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3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n kan verdiği tarih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642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4935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ğışçı Kaydı-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432000">
              <a:spcBef>
                <a:spcPts val="700"/>
              </a:spcBef>
              <a:buClr>
                <a:srgbClr val="000000"/>
              </a:buClr>
              <a:buFont typeface="Arial"/>
              <a:buAutoNum type="alphaLcPeriod" startAt="9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zik muayene bulgular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432000">
              <a:spcBef>
                <a:spcPts val="700"/>
              </a:spcBef>
              <a:buClr>
                <a:srgbClr val="000000"/>
              </a:buClr>
              <a:buFont typeface="Arial"/>
              <a:buAutoNum type="alphaLcPeriod" startAt="9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nın alınacağı kol bölgesinin muayene kayd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432000">
              <a:spcBef>
                <a:spcPts val="700"/>
              </a:spcBef>
              <a:buClr>
                <a:srgbClr val="000000"/>
              </a:buClr>
              <a:buFont typeface="Arial"/>
              <a:buAutoNum type="alphaLcPeriod" startAt="9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ayene eden doktorun ad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432000">
              <a:spcBef>
                <a:spcPts val="700"/>
              </a:spcBef>
              <a:buClr>
                <a:srgbClr val="000000"/>
              </a:buClr>
              <a:buFont typeface="Arial"/>
              <a:buAutoNum type="alphaLcPeriod" startAt="9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ğışçı sorgulama formuna verdiği yanıt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432000">
              <a:spcBef>
                <a:spcPts val="700"/>
              </a:spcBef>
              <a:buClr>
                <a:srgbClr val="000000"/>
              </a:buClr>
              <a:buFont typeface="Arial"/>
              <a:buAutoNum type="alphaLcPeriod" startAt="9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u doldurtan yetkilinin ko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432000">
              <a:spcBef>
                <a:spcPts val="700"/>
              </a:spcBef>
              <a:buClr>
                <a:srgbClr val="000000"/>
              </a:buClr>
              <a:buFont typeface="Arial"/>
              <a:buAutoNum type="alphaLcPeriod" startAt="9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ğışçının kabul edildiği ve yeterli kan alınabildiği no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356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ğışçıya Ait Kayıtlar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462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ağışçı Kaydı-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o. Bağışçı reddedilirse nede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p. Geçici-sürekli red duru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r. Geçici red süresinin bitiş tari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. Bağışçının kan alımı için izni ve imzas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. Bağışçının yeterince bilgilendirildiğine ve yapılacak işlemler için izin verdiğine dair onay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u. Bağışçının imzas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x. Kanı alan görevlinin ad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27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296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ğışçıya Ait Kayıtlar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79280" y="134136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ğışçı Kaydı-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. Bağışçı reaksiyonu görülmesi durumunda semptom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. Uygulanan teda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. Bağışçının son durumu ve bir daha kan bağışının kabul edilip edilemeyeceğine dair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. Müdahaleyi yapan görevlinin adı, geçen sü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ğışçının tedavi-önerileri kabul edip etmediğine dair bil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ğışçıya Ait Kayıtlar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28240" y="14842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ağışçı Kan Örneğinde Yapılan Testlerin Kaydı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34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Ünitenin numaras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34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ullanılan miyarlara ait bilgiler (marka, lot numarası, son kullanma tarihi, kontrol sonuçlar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34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BO ve Rh testlerinin sonuçları ve değerlendirme sonrası kan grubu (D</a:t>
            </a:r>
            <a:r>
              <a:rPr b="1" lang="tr-TR" sz="2800" spc="-1" strike="noStrike" baseline="30000">
                <a:solidFill>
                  <a:srgbClr val="000000"/>
                </a:solidFill>
                <a:latin typeface="Arial"/>
              </a:rPr>
              <a:t>u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ahi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34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Reverse gruplandırma sonuçlar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ğışçıya Ait Kayıtlar-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79280" y="1412640"/>
            <a:ext cx="8964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ağışçı Kan Örneğinde Yapılan Testlerin Kaydı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-496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Pozitif ve negatif kontrol testlerinin sonuçlar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-496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ntikor tarama test sonuçlar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-496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ifiliz ve diğer enfeksiyöz markerların test sonuçları ve değerlendirmel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(pozitif/negatif kontroller ve cut-off değeri il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-496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ullanılan ekipmanın kontroll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ğışçıya Ait Kayıtlar-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33440" y="426600"/>
            <a:ext cx="7191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AYITLA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5640" y="1268280"/>
            <a:ext cx="7543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7360" indent="-387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kes tarafından kolayca anlaşılabilme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üm kan merkezlerinde benzer olmal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 aşamadaki tüm bilgileri içerme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runmuş olmal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75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za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75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ırsızlı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75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ybol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75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hribat ve değişikli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ağışçı Kan Örneğinde Tapılan Testlerin Kaydı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Pozitif örneklerin yeniden test edilme kriterl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estlerdeki inkübasyon süresi ve ısıs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Geçersiz testler için kriterler, denetçinin notu varsa laboratuvar dışında yapılan testler ve yapılan 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ğışçıya Ait Kayıtlar-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ğışçı Kayıtlarında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Özel Durumlar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Otolog Bağışçı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0320" indent="-425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astanın doktoru ve kan merkezi doktorunun yazılı onaylar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0320" indent="-425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ağışçının fizik muayen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0320" indent="-425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8 haftadan sık aralarla kan verebileceğine dair bir belge düzenlenmes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0320" indent="-425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BsAg, Anti HIV 1+2, Anti HCV veya RPR pozitifliğinde doktorunun uyarıldığına dair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19807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ferez Bağışçıları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am Kan Bağışçılarına ek olarak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Üretici firmanın ad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ullanılan tüm solüsyon, yazılım ve ilaçların lot numaraları, kullanılan mik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ağışçıya ait laboratuar testl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İşlemin başlangıç ve bitiş sa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900000" y="259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ğışçı Kayıtlarında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Özel Durumlar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5564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ferez Bağışçıları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İşlenen kan volümü (her bir komponent iç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ahmini kan hücrelerinin kayb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Yan etk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İşlemin bağışçıya anlatılması sonrası bağışçı onay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826920" y="259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ğışçı Kayıtlarında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Özel Durumlar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000" y="17733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ferez Bağışçıları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İlaç ve immünizasyon uygulanacak bağışçılara işlemin anlatılması ve bağışçı onay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ıbbi öykü ve fizik muayene sonuçlar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oktorun, bağışçı onayı veya ret etme durumunun gösterilm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4000" y="40428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ğışçı Kayıtlarında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Özel Durumlar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4920" y="177336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erapötik Fleboto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asta doktorunun ist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lınan kan miktar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lınan kanın ne olduğ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omponent hazırlanması durumunda tanı da dahil olmak üzere tüm bilg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755640" y="475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ğışçı Kayıtlarında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Özel Durumlar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1980720"/>
            <a:ext cx="83059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erapötik Aferez İşlemleri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oktorun ist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astanın kimliğ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anıs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Yapılan iş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ullanılan met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Ekstrakorporel kan volüm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4000" y="54900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ğışçı Kayıtlarında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Özel Durumlar-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78920" y="19162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erapötik Aferez İşlemleri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2960" indent="-4114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Uzaklaştırılan komponentin ne olduğu ve volüm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2960" indent="-4114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Replasman sıvılarının miktar ve cin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2960" indent="-4114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Yan etk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2960" indent="-4114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Uygulanan teda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2960" indent="-4114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Onay for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684000" y="54900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ğışçı Kayıtlarında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Özel Durumlar-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81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an Ürünü Hazırlama Kayıtlar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560" y="134136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am kan numaras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nın alındığı tarih–sa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ntikoagülan maddenin adı ve miktar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Ürün adı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Ürünün hazırlandığı tarih-sa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Ürünün son kullanma tarihi ve sa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Ürünün volüm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avuzlanan ürün numaraları ve hangi merkeze ait olduğ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tiketl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ağışçı seçim kriterlerine uyulduğu ve uygun olmayan ürünlerin çıkışının yapılmadığı no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erolojik test kayıtlarının doğruluğunun ve tamamlandığının kontrol edilerek dökümante edildiğ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toktan doğru ünitenin alındığ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Etiketleme işleminin iki kişi tarafından kontrol edilerek yapıldığ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820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Ölümle sonuçlanan transfüzyon reaksiyonlarının çok büyük bir bölümünde neden etiket, form ya da defterlerde yapıla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KAYIT HATALAR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le ilgi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76197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şka Merkeze Gönderile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anların Kaydı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ğışçıdan kanı alan merkezin adı-adr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rih ve s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 bir ürünün ad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 bir ünitenin numaras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n grub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619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şka Merkeze Gönderile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anların Kaydı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2362320"/>
            <a:ext cx="85345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-4640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n kullanma tarihi ve gerekli ise sa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Ünitenin son gözle kontrolü ve sonuçl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İstemi yapan personelin kimliğ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şınma süresince periyodik olarak yapılan kontro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şka Merkezden Gele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anların Kaydı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683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Gönderen merkezin adı-adres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n ürünün ad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Gönderen merkezin tam kan numarası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bul eden merkezin kendi numaras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BO ve Rh tip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Ürünün son kullanma tarihi ve gerekli ise saa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eslim alındığı tari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Cross-match yapılmış kan ise transfüze edilecek hastanın adı, protokol numarası, cross-match sonuçları, kabul eden merkezce yapılan testlerin sonuçlar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69390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şınlanmış K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05264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-458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ynağın niteliği, süres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şınlama doz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omponent birden fazla kez ışınlanmış ise toplam ışınlama doz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omponentin dış ortamda kalma süresi ve dış ortam ısıs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şınlamayı yapan personelin ad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arih ve s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şınlama cihazının kalibrasyo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şınlama personelinin eğiti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ldıkları radyoaktivitenin monitörizasyo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ğer Kayıtl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lgisayar sistemi ile ilgili dokümantasy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ullanılan cihazlarla ilgili kayıt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lite kontrol ile ilgili kayıt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el iş güvenliği ve sağlığı ile ilgili kayıt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talar, kazalar ve şikayetlerle ilgili kayıt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424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atalar, Kazalar ve Şikayet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55640" y="1052640"/>
            <a:ext cx="8137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atanın tanım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Etkilenen ürünlerin adı, kayıt numaras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atanın oluş ve tespit tari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Ürünlerin transfüze edilip edilmediğ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atanın servis doktorunca fark edilip edilmediğ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atayı yapan perso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atanın tanımlanması hakkında no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Önlemek için yapılan çabal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İlgili üretici firma adı, ürünün lot numaras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AYITLARLA İLGİLİ PROTOKOL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8893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yıtları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sıl tutulacağın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ksiksiz ve doğru olarak tutulup tutulmadığının nasıl gözden geçirileceğ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kım periyodunun ne olacağın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ngi süreyle saklanacağın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ki kayıtlara nasıl ulaşılacağın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riye dönük takibin nasıl sürülebileceğini belirten bi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YAZILI PROTOKO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ulunmalıdı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AYITLAR NASIL TUTUL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1484280"/>
            <a:ext cx="7162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ZORUNLU DEFTER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ağış Kan Kayıt Deft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atın Alınan Kan Kayıt Deft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n Grup Defteri (Laboratuvar Defter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Cross-match ve Servis Çıkış Deft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erolojik Testler Kayıt Deft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İmha Edilen Kan Kayıt Deft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İLGİSAYAR KULLANIM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13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ünümüzde yasal kayıt olarak kabul edilmemekte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asal bir izin yok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i kaybının önlenmesi önemli bir sorund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ğer kullanılıyorsa veriler zorunlu kayıt formatında tutulmalıdı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üzenli olarak yazıcı çıktıları alınmalı ve ciltlenmelid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90080" y="274320"/>
            <a:ext cx="75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ayıtlarda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kkat Edilecek Noktalar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rçekleşen her olay adım adım kaydedil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yıtlar tam olmalı, bilgi atlanma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kunaklı ol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ükenmez kalemle yazılmış ol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 basamakta kim, ne, ne zaman, nerede, niçin ve nasıl sorularının yanıtları olmalıdı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8360" y="1557000"/>
            <a:ext cx="81532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yıtların kim tarafından yapıldığı mutlaka bilin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el tarih ve imza atmalı veya ad-soyadının baş harflerini veya özel bir kodu belirt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Çalışanları ve onların kodlarını gösterir listeler tüm personeli kapsa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090080" y="274320"/>
            <a:ext cx="75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ayıtlarda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kkat Edilecek Noktalar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06:42:47Z</dcterms:created>
  <dc:creator>esra karakoç</dc:creator>
  <dc:description/>
  <dc:language>en-US</dc:language>
  <cp:lastModifiedBy>DELL</cp:lastModifiedBy>
  <dcterms:modified xsi:type="dcterms:W3CDTF">2006-10-17T20:48:29Z</dcterms:modified>
  <cp:revision>18</cp:revision>
  <dc:subject/>
  <dc:title>KAN MERKEZLERİNDE KAYIT</dc:title>
</cp:coreProperties>
</file>