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8A2-EE8B-45CA-83E2-A25CB366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911-8C64-4AC7-82FD-9B961DD2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BDA-F2CA-4D32-AB4F-7F2EEC10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502-BF4A-49CA-8DB9-41488B70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475-C310-417A-BEB1-C58C0296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EB2-8326-415A-97F4-AFB4371C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140-4779-4DDB-8688-E21D852C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C6D-D942-4F4A-AAE8-435E99AC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6C5-F81E-4576-8546-192B287F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14D-EF3A-478A-8512-D80B9765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62C-292A-4FD2-8C87-900C99A5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2DB-8A6D-4857-B99D-F1879E1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226B-6E98-4E8D-A316-56D520362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AN ALMA İŞLEMİ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AĞIŞÇIDA İZLENEN YAN  ETKİLER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268280"/>
            <a:ext cx="835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kan verme işlemi sırasında ve hemen sonrasında ASLA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yalnız bırakılmaz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! durduktan sonra bantlanır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flebotomi sonrasında birkaç dakika yakın takip altında, yatak veya koltuğunda kalma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iyi ise oturmasına izin ve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ya flebotomi sonrası bakım ile ilgili bilgiler ve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5960" y="404640"/>
            <a:ext cx="47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48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268280"/>
            <a:ext cx="82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ğışçıya verilecek bilgi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yrılmadan bir şeyler yiyip için, en az 10 dakika burada kalın ve izinsiz ayrılmay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lk 4 saatte her zamankinden fazla sıvı için (24 saate kadar uzayabil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ım saat sigara içmey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r sonraki öğünden önce alkollü içecekler almay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rkaç saat damara giriş yerinin üzerine basınç uygulamayın, kolunuzla ağır yük kaldırmay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1052640"/>
            <a:ext cx="87854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ı birkaç saat kolunuzda bırakın, eğer kanarsa kolunuzu kaldırın ve basınç uygulay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ygınlık hissi veya baş dönmesi olursa bir yere uzanın veya başınızı iki dizinizin arasına alacak şekilde otu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dinizi normal hissederseniz yarım saat içinde normal aktivitenize dönebilirsiniz, ancak birkaç saat ağır veya tehlikeli işlerden uzak kal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4680" y="189000"/>
            <a:ext cx="47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911160"/>
            <a:ext cx="871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zı işlerde (inşaat işçileri, makine operatörleri, servis şoförleri vb.) veya yüksek yerlerde çalışanlar işlerine hemen dönerlerse olası tehlikeler konusunda uyarılmalı ve 24 saat dinlenmeleri öne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ya mutlaka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eşekkür edilmeli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 az 8 haftalık bir aradan sonra tekrar kan vermesi için cesaretlendiril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iyecek ve içecek ikram edil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rhangi bir reaksiyon olursa veya bağışçı izin verilmeden kan merkezinden ayrılırsa dosyasına kaydedilmel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0214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PERSONEL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70028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üleryüzlü ve anlayışlı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ksiyon belirtilerine karşı uyanık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ndilerine verilen talimatları anlamalı ve sorulara cevap vereb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yı sağlıklı bir şekilde yollamanın sorumluluğunu üstleneb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7056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 BAĞIŞ REAKSİYO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299736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 Tıbbi kan bağış reaksiyo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- İdari/sosyal kan bağış reaksiyo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 BAĞIŞ REAKSİYO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206064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fif reaksiyonlar; bilinç kaybı 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rta şiddette reaksiyonlar; bilinç kaybı 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Şiddetli reaksiyonlar; bilinç kaybı + konvülsi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98900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z kararmas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üçsüzl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luklu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perventilas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iltte soğuklu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potansi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rleme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itr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nkop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nvülsi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lant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İdrar kaçı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sma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Dışkı kaçı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1400" y="404640"/>
            <a:ext cx="750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 BAĞIŞ REAKSİYO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5257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İSK  GRUP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05264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üçük ya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üşük vücut ağırlı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lk kez kan bağışı yap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dın olmak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 öncesi kan basıncının düşük o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ıt ve bağış süresinin uza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ekleme ortamı ve kan alan personelin yaklaşımının bağışçıyı rahatsız edici ve güven vermeyen bir tarzda o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çlı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ß-bloker kullanım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kalarının geçirdiği reaksiyonlara şahitl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5977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ÜDAHALE VE TEDAV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55736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alımı hemen duruduru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rumlu doktora haber ve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Trandelenburg pozisyonuna geti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yla sakinleştirici yönde sürekli konuşu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smaya karşı hazırlık yapış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mer, kuşak, kravat, vb gevşet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ralıklı olarak tansiyon ve nabız bak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ha ileri durumlar için hazırlık yap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yakından izlen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021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kim yönetim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ç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imli personel tara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d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ap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ek kullanımlı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ve kap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 kul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ı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septik metot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ygulanmalıdır (Torba veya ambalajlı malzemelerde herhang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ir 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-deli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veya k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ğ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ambala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 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 vars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çindekiler kul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ma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lan k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m 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da eldiven giymelid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mara bir kez girilmelid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ara birden fazla girmek gerekir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eni bir s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ya steril birleştirme cihazları kullan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5040" y="404640"/>
            <a:ext cx="47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628640"/>
            <a:ext cx="86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rbanın etiketinde, kullanılan antikoagülanın adı ve miktarı ile toplanan kanın miktarı yaz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ekübital bölgede cilt lezyonu olm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niş ve sağlam bir ven seçilir; Bir turnike veya 40-60 mmHg basınca ayarlanmış bir manşon kullanılır. Damar seçildikten sonra cilt antisepsisi tamamlanana kadar turnike aç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0214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41300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ilt antisepsisi: % 10’luk iyodofor kompleksi kullan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erkezden başlayıp dışa doğru dairesel hareketlerle bir daha merkeze dönülmeyecek şekilde temizl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ruması için 30 saniye bekl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rar alkol uygulamaya gerek yo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sepsi sonrası bölge palpe edilme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rba kontrol edilir (renk, antikoagülan, sızıntı, numara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rba kol seviyesinin altına yerleşti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97000"/>
            <a:ext cx="864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alma-çalkalama sistemi kullanılıyorsa ayarları kontrol 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etal klips / el kapatıcısı kullanılmıyorsa sete önce gevşek bir düğüm at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ğnenin kapağı açılmadan hemostat yerleşti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urnike / manşon tekrar takılarak damara gi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ya yumruğunu açıp kapaması söyl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mar palpe edilmemeli, zorunlu ise steril eldiven tak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mara ustalıkla g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ğnenin yerinde durması için set bağışçı koluna bant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0214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341360"/>
            <a:ext cx="878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urnike veya manşonun basıncı 20 mmHg veya altına indi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niteyi kontamine etmeyen bir metotla  testler için tüpe kan alınır, turnike / manşon çıkart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ğne damardan çek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lebotomi yerinin üzerine konan steril  pamuk ya da gazlı bez üstüne basınç uygulanır ve bağışçıya dirseğini kıvırmadan kolunu yukarıya kaldırması söyl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ama durunca bağışçı kolu indir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4680" y="404640"/>
            <a:ext cx="47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0214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05264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üzenli ve yeterince hızlı bir kan akımı olmalı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, yavaş ve periodik olarak antikoagülanla karıştırılmalıdır (45 saniyede bir). Elle veya otomatik cihazlar kullanı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alma süresi 8 dakikadan uzun ise trombosit, taze donmuş plazma ve kriopresipitat hazırlanması için uygun olmay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ınan miktar antikoagülan ile uyumlu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rba yeterince dolduğunda bağışçıya elini açması söyl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te bir klemp takılır veya önceden atılmış gevşek düğüm sıkılaştır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2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197000"/>
            <a:ext cx="88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üğümden başlayarak setin içindeki kan hızla torbaya aktar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rba çalkalanarak antikoagülanla karışması sağlan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va kabarcığı oluşturmadan set yeniden doldurulur ve işlem ikinci bir kez tekrarlan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rbaya bağlı set 7.5 cm.lik segmentlere ayrılır (cross-match, v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tin iğneli kısmı tıbbi atık kutusuna atılmalıdır. İğnenin kapağı kapatılmaya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çalışılmamalıdır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üm kayıtlardaki numaralar tekrar kontrol 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4968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ALMA İŞLEM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34136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ombosit süspansiyonu hazırlamak için kullanılacak ürünler dışında tüm üniteler, 1- 6</a:t>
            </a:r>
            <a:r>
              <a:rPr b="1" lang="tr-TR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 'de saklanmalı veya sıcaklığı +4</a:t>
            </a:r>
            <a:r>
              <a:rPr b="1" lang="tr-TR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‘ye düşürecek transport kaplarına ko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ombosit süspansiyonu üretiminde kullanılacak olan üniteler trombositler ayrılana kadar 20-24</a:t>
            </a:r>
            <a:r>
              <a:rPr b="1" lang="tr-TR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'de tutulmalı ve işlem 4 saat içinde tamam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verme işlemi sırasında bağışçı gözlem altında tutulur ve reaksiyon belirtileri açısından izl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21:25:48Z</dcterms:created>
  <dc:creator>HUSNU</dc:creator>
  <dc:description/>
  <dc:language>en-US</dc:language>
  <cp:lastModifiedBy>DELL</cp:lastModifiedBy>
  <dcterms:modified xsi:type="dcterms:W3CDTF">2006-10-19T15:51:50Z</dcterms:modified>
  <cp:revision>255</cp:revision>
  <dc:subject/>
  <dc:title>Slayt Başlığı Yok</dc:title>
</cp:coreProperties>
</file>