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E401-E739-4F44-A5C5-9B99449C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F92D-6D7B-4642-BF29-170A2393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C2F0-D66A-4D05-95F2-FFFE776A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9222-9E13-457D-AEA8-F7A4EE4D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2B7D-DF10-45AF-9C81-B872CB4B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F1F6-F41D-46B4-9F28-0943D643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2DFC-8BD6-4D84-A568-C1C397E8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41C1-7D76-4944-8C7A-025F8843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AA26-FFEA-44EB-895B-0C57558F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B159-3D19-4887-964E-282D0114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6410-F023-4390-94E0-8EADE27A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A47F-5AB8-406E-A0B6-95085F85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D368-D7E8-4A70-B373-0AB14DEDF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ÜRÜN STANDARDİZASYONU VE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KALİTE KONTROL ÇALIŞMALAR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MP YAPILANMAS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676160"/>
            <a:ext cx="86407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MP iki temel  yapıdan oluşu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ALİTE SİSTEMİ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aliteyi etkileyen  her basamak bu sistem içerisinde yer alı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syon yapısı (idari ve fizik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öntem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İşlemler, süreçler, kayıt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ynaklar (İşlem araçları, sarflar, personel beceriler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ALİTE GÜVENCE SİSTEMİ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alite sistemini sürekli kontrol eden, denetleyen, iyileştirmeler yapan  yönetim sistemi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AN BANKACILIĞIND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MP’NİN TEMEL UNSURLARI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lite yöneti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el ve organizasy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a, donanım, ekipman ve materya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kümantasy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lama, işleme, saklama ve dağıtı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lite kontrol ve yeterlilik testl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AN BANKACILIĞIND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MP’NİN TEMEL UNSURLARI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üm işlemlerin onaylanması ve yetkilendiril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Şikayetler ve geri çağır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taların araştırılması, ürünlerin kullanım sonrası klinik sonuçlarının taki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Örneklerin saklanması, sorunlu, iade edilen ürünlerin imha edilme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İç ve dış denet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LİTE YÖNETİM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lite, üretimin her basamağında personelin sorumluluğud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 amaçla önce kalite el kitabı hazırlanmalı ve tüm personel bu konuda eğitilmelid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Üretim tesisi veya kan bankası için idari akış ve iş akış şemaları oluşturulmalıdı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lite güvence birimi kurulmalıdı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29944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SONEL ORGANİZASYONU-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teri sayıda kalifiye personel bulunmalıdı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elin ayrı ayrı ve açıkça görev tanımları yapılmalıdı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yerarşik görev şemaları çıkartılmalıdı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htar personel belirlenmelid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lite güvence müdürü (örn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SONEL ORGANİZASYONU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ĞİTİ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ersonel sürekli eğitime tabi tutulmalıdı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Genel mikrobiyoloji ve biyogüvenlik eğitimi her personele verilmelid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iyogüvenlik talimatları her bir departmanda görülecek bölgelerde asılı olmalı ve personelin  bu kurallara kesinlikle uymaları sağlanmalıdı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SONEL ORGANİZASYONU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ĞİTİ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 personel yapacağı işle ilgili ayrı GMP eğitimine alınmalıdı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elin aldığı eğitimi verdiği hizmete yansıtabilme düzeyi ölçülebilir yöntemlerle tespit edilebilmeli, kayıtları tutulmalıdı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İNA, EKİPMAN VE MATERYALLER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a ve ekipman hedeflenen amaçlara uygun olarak dizayn edilmelid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lamada bina, hataları en aza indirecek, üretimi, kalite kontrolü kolaylaştıracak şekilde   planlanmalıdı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lama sonrası  inşaat aşamasında kullanılacak malzemenin özellikleri, temiz havalandırma sistemi, önceden belirlenmelid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stemin elektrik, su için yedek sistemleri belirlenmelid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üvenlik sistemleri kurulmalıdı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İNA, EKİPMAN VE MATERYALLER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ina yapılanmas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bağışçısı odalar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bağışçısı kabul ve kayıt odası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bağışçısı seçim ve muayene odası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alma ve aferez odalar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alma odas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ferez odas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eaksiyon izleme odas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kram ve donasyon sonrası izleme alanı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İNA, EKİPMAN VE MATERYALLER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773000"/>
            <a:ext cx="82789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işleme laboratuvarı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- kan ürünleri ve materyal- ekipman depolar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lınan kan ve kan ürünleri bekleme depo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Geçici karantina depo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ağıtıma hazır ürün depolar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lıcı karantina depo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iğer depolar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 KOMPONENTLER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nsan kanı ve plazmasından elde edilen biyolojik ürünlerd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ynak materyalin biyolojik özelliğinden dolayı özel nitelikler taşı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u ürünlerin güvenliği ve etkinliği; kaynak materyalin kontrolünün yanısıra üretim, depolama, nakil ve kullanım süreçlerinin tüm basamaklarının kontrolüne bağlıdı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İNA, EKİPMAN VE MATERYALLER-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Laboratuarlar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mmünohematolo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ikrobiyolojik testler ve doğrulama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lite kontrol la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ikrobiyolojik kalite kontrol la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aketleme, etiketleme ve dağıtım odas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tık odas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İNA, EKİPMAN VE MATERYALLER-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rdımcı alan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ğitim odas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lgi işlem ve Arş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önetim odalar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el odaları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yunma odalar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yo ve tuvaletler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n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İNA, EKİPMAN VE MATERYALLER-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KİP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komponentlerinin üretiminde kullanılacak her türlü ekipman  amaçlar için uygun ve CE belgeli olmalıdı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kipman efektif temizliğe ve  kalibrasyona izin verir yapıda olmalıdı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üm ekipmanın temizliği, kalibrasyonu SOP’lerde tanımlandığı şekilde düzenli olarak yapılmalı, kaydedilmeli ve saklanmalıdı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İNA, EKİPMAN VE MATERYALLER-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ERYALLER-REAKTİF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tın alınacak tüm üretim reaktifleri özelliklerinin tanımlandığı detaylı raporlar yazılmalıdı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 bir ürün ve her bir lot numarası için satıcıdan kullanım amacına yönelik uygunluk sertifikasyonları istenmelid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 materyallerin son kullanım tarihleri envanterlere işlenmeli ve sürekli takip edilmelid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zulan ürünlerin  bilgisi ayrıca üretici firmaya da iletilmelid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932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KÜMANTASYON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Dökümantasyon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sözlü iletişimden doğacak hataları önlediği gibi sistemin kontrolünü de mümkün kılmaktadır. Dokümantasyon en az aşağıdaki konuları içermek zorundadı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lite el kitab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ullanılacak ekipman, materyal, kan komponentleri ve reaktiflerin özelliklerinin tanımlandığı teknik şartnamel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OP’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iğer prosedürler (Temizlik, bakım, kalibrasyon v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932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KÜMANTASYON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Operasyon performans kayıtları (bağışçı seçim notları, kalite kontrol metotları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ilgisayar yazılım ve donanım tanımlamalar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rotokoller (Denetleme, şikayetlerin takib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ersonel eğitim ve yeterlilik kayıtlar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Nadir kullanılan komponent ve materyallerle ilgili  protok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ulanıcılar için her bir değişiklikten sonra veya yılda en az bir kez yayınlanan komponent-test bilgi el kitapçıklar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6072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PLAMA, İŞLEME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AKLAMA VE DAĞITIM-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Kan Bağışçısının Seçi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komponentlerinin final kalitesi  pek çok faktöre bağlıdır; kalite kan bağışçılarının seçimiyle başlar. Ulusal düzenlemelere uygun dikkatli bir seçim yapılmalıdır. Sürekli ve gönüllü bağışı özendirici programlar uygulanmalıdı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Kanın Toplanmas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oplama prosedürü SOP’lere uygun yapılmalı ve denetlenebilmelid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PLAMA, İŞLEME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AKLAMA VE DAĞITIM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80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Komponent Hazırlanmas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komponentlerinin açık ve detaylı yazılmış talimatlara uygun olarak, eğer mümkünse kapalı bir sistemde işlenmesi gereklid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çık bir sistem gerektiren işlemlerde  mikrobiyal kontaminasyon riski nedeniyle işlem özel bir alanda gerçekleştirilmek zorundadı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eni üretim metotları devreye sokulduğunda ve her değiştirildiğinde onaylanmalıdı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PLAMA, İŞLEME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AKLAMA VE DAĞITIM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Depolama, Dağıtım ve Taşı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ağıtıma henüz sunulmamış, son komponentler karantinada bekletilmelidir. Ancak tüm kalite kontrolü ve laboratuvar testleri tamamlandıktan sonra ve sonuçlar  önceden belirlenmiş standartlara uygun ise dağıtıma başlanmalıdı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LİTE KONTROL VE YETERLİLİK TESTLERİ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Genel olarak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kalite kontrol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, materyallerin ve üretim süreçlerinin tanımlanan özelliklerle örtüştüğünü garanti eden, doğrulayan  test basamaklarını  bünyesinde bulunduran aktiviteler topluluğud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lite kontrol testler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ç (internal) kalite kontrol testler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ış (eksternal) kalite kontrol testler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olmak üzere iki ayrı tipt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KREDİTASYON, G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ile ilgili kuruluşların; kanın toplanması, kan komponentlerinin hazırlanması, üretilmesi ve dağıtılması faaliyetleri için ruhsat almaları ve periodik olarak denetlenmeleri gereklid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u da GMP ve akreditasyonla mümkündü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Ürün için ruhsat ya da sertifika değil, sistemin kontrolüne ihtiyaç vardı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LİTE KONTROL VE YETERLİLİK TESTLERİ-2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860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el yeterlilik testleri, personelin istenilen  görevleri yerine getirmekte gösterdiği yeterliliğin  ölçülmesini amaç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üm kalite kontrol ve yeterlilik testleri tanımlanmalı ve kayıtları saklanmalıdı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AYLA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134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Onaylama gerektiren durum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şlemlerin ve üretim basamaklarının her bir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Örneğin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eritrosit süspansiyonu elde etmek için SOP’lerde tanımlanan metot denenerek sonuçları rapor edilmeli etkinliği onaylanmalıdı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nalizler, kalite kontrol metotlar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kip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Onay raporları mutlaka kayıt altına alınmalı ve saklanmalıdı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ŞİKAYETLER VE KANIN GERİ TOPLANMAS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63100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talı kan komponentlerinin dağıtıldığı konusunda tüm şikayet ve diğer bilgiler dikkatlice araştırılmalıdı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talı veya hatalı olabileceğinden şüphe edilen kan ürünlerini geri toplama için yazılı prosedürlerin olması gereklid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ağıtılmış kan komponentleriyle ilgili olan tü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şikayetler mümkün olduğunca çabuk değerlendirilmeli ve soruşturmalar yapılmalıdı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50752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ÜRÜNLERİ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ULLANIM SONRASI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LİNİK SONUÇLARININ TAKİBİ-1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227664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istemdeki problemleri belirlemek amacıyla her basamakta hata ve kazalar araştırılmalı ve dokümante edilmelid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Üretilen kan ürünlerinin kullanım sonrası klinik sonuçları mutlaka takip edilmelidir. Önemli yan etkilere, hastalıklara neden olabilecek, belirlenmiş veya potansiyel risk taşıyan olayları soruşturmaya ve rapor etmeye öncelik tanınmalıdı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ÜRÜNLERİ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ULLANIM SONRASI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LİNİK SONUÇLARININ TAKİBİ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228600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Gerçekleşen olayların yanı sıra,   son anda önüne geçilen  hata ve kazalar da ilgili kalite sisteminin bir parçası olarak incelenmeli ve rapor edilmelid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üm bunları  önleyici ve düzeltici faaliyetler de  dokümante edilmelidir. Bu rapor ve yaşanmış olaylar personel eğitiminde kullanılmalıdı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ÖRNEKLERİN SAKLANMASI, SORUNLU, İADE EDİLEN ÜRÜNLERİN İMHA EDİLMES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ümkün olduğunca bağışı yapılan her ürün ileride gereksinimi ortaya çıkabilecek retrospektif testlerin yapılabilmesi amacıyla ulusal otoritelerin belirlediği süreler boyunca saklanmalıdı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bul edilmeyen kan ve kan ürünleri ile artan materyallerin ortadan kaldırılması SOP’lerde tanımlanmalıdı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İÇ (İNTERNAL) V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Ş (EKSTERNAL) DENETİ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ç 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enetlemeler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üm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rosedürleri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v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lgili konuların kalite kontrolüdür. Otoriteye sahip kişiler tarafından iyi kurulmuş bir programa göre yürütülmelid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ış denetlemeler aynı zamanda resmi olarak kabul görmüş otoriteler tarafından uygulanmalıdı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 VE KAN KOMPONETLERİNİ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LİTE GARANTİS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80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İYİ ÜRETİM UYGULAMAL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GOOD MANUFACTURING PRACTISE ,GM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KREDİTASY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N KOMPONENTLERİNİN KONTROLÜNDE TEMEL YAKLAŞIM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3760" indent="-383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bağışçısının seçimi ve bilgilendirilme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bağışçısının kendi kendisini kan bağışından eleme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ın toplanmas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estler (İyi Laboratuvar Uygulamaları-Good Laboratory Practice-GL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Ürünün hazırlanması, etiketlemesi, serbestleştirilmesi, geri çağrılmas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epolama, tasnif etme, dağıtı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ilgi yönetimi (dökümantasyon, izlenebilirlik, hemovigila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 KOMPONENTLERİNİN ETKİNLİĞİ VE GÜVENLİĞ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35280" y="3212640"/>
            <a:ext cx="4967280" cy="12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tkinlik ve güvenlik = Kalit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Lİ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ANIM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ir amacı yerine getirmek için uygunl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zmetlerin ve ürünlerin belirlenmiş standartlarla uyumlu, tutarlı ve güvenilir performans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AMAÇ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Güvenli transfüzy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ÜRÜNLER;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transfüzyon için kullanılan güvenli kan ve kan komponentl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MP NEDİ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424720" cy="21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MP,  ISO-9001 kurallarının hepsini içeren ve tıbbi ürünlere özgü ilave gereksinimlerin de karşılandığı daha özgün bir kalite yönetim sistemid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MP’NİN MANTIĞ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856908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Üretim politikanı, hedeflerini, kurallarını belir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ptığın her şeyi ya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zdığın her şeyi y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ptıklarını kanıt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taları düzelt ve kaliteyi artı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8:13:18Z</dcterms:created>
  <dc:creator> </dc:creator>
  <dc:description/>
  <dc:language>en-US</dc:language>
  <cp:lastModifiedBy>DELL</cp:lastModifiedBy>
  <dcterms:modified xsi:type="dcterms:W3CDTF">2006-10-18T05:43:17Z</dcterms:modified>
  <cp:revision>15</cp:revision>
  <dc:subject/>
  <dc:title>ÜRÜN STANDARDİZASYONU VE KALİTE KONTROL ÇALIŞMALARI</dc:title>
</cp:coreProperties>
</file>